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8.xml.rels" ContentType="application/vnd.openxmlformats-package.relationships+xml"/>
  <Override PartName="/ppt/notesSlides/_rels/notesSlide25.xml.rels" ContentType="application/vnd.openxmlformats-package.relationships+xml"/>
  <Override PartName="/ppt/notesSlides/notesSlide25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jpeg" ContentType="image/jpeg"/>
  <Override PartName="/ppt/media/image2.png" ContentType="image/png"/>
  <Override PartName="/ppt/media/image25.png" ContentType="image/png"/>
  <Override PartName="/ppt/media/image3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  <p:sldId id="279" r:id="rId35"/>
    <p:sldId id="280" r:id="rId36"/>
    <p:sldId id="281" r:id="rId37"/>
    <p:sldId id="282" r:id="rId38"/>
    <p:sldId id="283" r:id="rId39"/>
    <p:sldId id="284" r:id="rId40"/>
    <p:sldId id="285" r:id="rId41"/>
    <p:sldId id="286" r:id="rId42"/>
    <p:sldId id="287" r:id="rId43"/>
    <p:sldId id="288" r:id="rId44"/>
    <p:sldId id="289" r:id="rId45"/>
    <p:sldId id="290" r:id="rId46"/>
    <p:sldId id="291" r:id="rId47"/>
    <p:sldId id="292" r:id="rId48"/>
    <p:sldId id="293" r:id="rId49"/>
    <p:sldId id="294" r:id="rId50"/>
    <p:sldId id="295" r:id="rId51"/>
    <p:sldId id="296" r:id="rId52"/>
    <p:sldId id="297" r:id="rId53"/>
    <p:sldId id="298" r:id="rId54"/>
    <p:sldId id="299" r:id="rId55"/>
    <p:sldId id="300" r:id="rId56"/>
    <p:sldId id="301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slide" Target="slides/slide24.xml"/><Relationship Id="rId36" Type="http://schemas.openxmlformats.org/officeDocument/2006/relationships/slide" Target="slides/slide25.xml"/><Relationship Id="rId37" Type="http://schemas.openxmlformats.org/officeDocument/2006/relationships/slide" Target="slides/slide26.xml"/><Relationship Id="rId38" Type="http://schemas.openxmlformats.org/officeDocument/2006/relationships/slide" Target="slides/slide27.xml"/><Relationship Id="rId39" Type="http://schemas.openxmlformats.org/officeDocument/2006/relationships/slide" Target="slides/slide28.xml"/><Relationship Id="rId40" Type="http://schemas.openxmlformats.org/officeDocument/2006/relationships/slide" Target="slides/slide29.xml"/><Relationship Id="rId41" Type="http://schemas.openxmlformats.org/officeDocument/2006/relationships/slide" Target="slides/slide30.xml"/><Relationship Id="rId42" Type="http://schemas.openxmlformats.org/officeDocument/2006/relationships/slide" Target="slides/slide31.xml"/><Relationship Id="rId43" Type="http://schemas.openxmlformats.org/officeDocument/2006/relationships/slide" Target="slides/slide32.xml"/><Relationship Id="rId44" Type="http://schemas.openxmlformats.org/officeDocument/2006/relationships/slide" Target="slides/slide33.xml"/><Relationship Id="rId45" Type="http://schemas.openxmlformats.org/officeDocument/2006/relationships/slide" Target="slides/slide34.xml"/><Relationship Id="rId46" Type="http://schemas.openxmlformats.org/officeDocument/2006/relationships/slide" Target="slides/slide35.xml"/><Relationship Id="rId47" Type="http://schemas.openxmlformats.org/officeDocument/2006/relationships/slide" Target="slides/slide36.xml"/><Relationship Id="rId48" Type="http://schemas.openxmlformats.org/officeDocument/2006/relationships/slide" Target="slides/slide37.xml"/><Relationship Id="rId49" Type="http://schemas.openxmlformats.org/officeDocument/2006/relationships/slide" Target="slides/slide38.xml"/><Relationship Id="rId50" Type="http://schemas.openxmlformats.org/officeDocument/2006/relationships/slide" Target="slides/slide39.xml"/><Relationship Id="rId51" Type="http://schemas.openxmlformats.org/officeDocument/2006/relationships/slide" Target="slides/slide40.xml"/><Relationship Id="rId52" Type="http://schemas.openxmlformats.org/officeDocument/2006/relationships/slide" Target="slides/slide41.xml"/><Relationship Id="rId53" Type="http://schemas.openxmlformats.org/officeDocument/2006/relationships/slide" Target="slides/slide42.xml"/><Relationship Id="rId54" Type="http://schemas.openxmlformats.org/officeDocument/2006/relationships/slide" Target="slides/slide43.xml"/><Relationship Id="rId55" Type="http://schemas.openxmlformats.org/officeDocument/2006/relationships/slide" Target="slides/slide44.xml"/><Relationship Id="rId56" Type="http://schemas.openxmlformats.org/officeDocument/2006/relationships/slide" Target="slides/slide45.xml"/><Relationship Id="rId57" Type="http://schemas.openxmlformats.org/officeDocument/2006/relationships/slide" Target="slides/slide46.xml"/><Relationship Id="rId5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2C329-03F5-47EA-9505-722F909EFBD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20A12-8751-43B6-A075-893C85F03E2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DB14D-DD89-4F1D-A0AD-BC6652B0341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C6B5E-C319-4C6A-9CB0-699920E9C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41FAB-9C2B-4141-B0A0-2EB662F3A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D7DBAC-BEA7-4366-9141-C5F316B45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5BBEBC-CAFB-4BC8-B2B2-331454E9C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E48864-EACC-4748-83E0-2BCC3BEC7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D47908-87E2-444E-9280-F2D590021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893DB1-5A73-4ED0-8387-5DB29183F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991ECD-3B08-4028-9532-7574E8F70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4B1024-5619-4755-8851-5A373FB2A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A7384B-78BB-498F-9B38-732E0E896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60DECF-BCBE-44E2-974D-D9B0646F2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ADDD7-E046-4C59-A77B-1537D0CD1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427FC-A1DA-45F2-8128-E68FE296A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B304C-E0D0-40EB-AD63-2B331D2E7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47E34-5403-4CB1-AD51-665A9ACD1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979BA-F6EB-4645-AA29-9D398B113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D4987-B2A9-4907-9FBA-6E11767CD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9D079-F671-4255-A671-A79260883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9D292-0904-4B66-B295-8AA7ADA85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15A24-DD61-4E74-BDF3-93EAD0E0E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A9C50-9A78-4A6E-9EEB-E587F1566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BBC11-3DCA-409F-BE96-C98A0E0EC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7CF51-6C62-4332-90F6-6EE67F9AC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71A57-FC93-44FD-B0AC-1AAAA6643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796A9-132F-4F58-8CB9-9ABCC4EEB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489D7-3681-4F54-82F0-206B8E404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C81428-A43F-4B22-9F93-682D169F8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051928-E137-475B-B87B-E0ECD5A74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AB8CA8-852D-463E-8958-A73E51EAD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88EA16-648A-46FA-A4B7-8B9BE0BEA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55EC65-4E6D-460C-883A-46E36E0C1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17EB0-B3F5-4E26-8B67-5A5618394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A0BC4E-F174-46F7-8584-C164706C5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AA4941-2950-46AF-877C-00ED8DA42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F9F174-A6BE-44C7-920D-0B3481B79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336E3D-4F33-44E1-9A71-C65320E11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ED4E0F-EEE5-4C87-B445-ABFE6B4AE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E9EC6C-47FF-4E97-A858-619658C21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8E375F-C5C4-4108-8F57-C6D6DDDD3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9A56F8-6F29-434A-A1CF-7CDB5C53A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FFBCE2-5E7A-4B3D-8C2B-C7F65B4D1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70FE5B-9139-428D-B44E-E9DB93D2C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38B91-A5B8-4D38-B8FD-A9C9AD340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46E2E6-0821-48B4-90DE-5A24CE72D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921A97-C9B9-468E-BA8F-6E2FA4119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AE4FFA-5B75-40A4-895F-979E36CD4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2A3E2E-3366-42E0-BEFA-DE7F3F7C1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68C796-B19B-412A-8728-7719055B0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F4B0A2-F138-4BC9-B598-1D499550B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3D3962-39E2-473A-8D19-5AA5C4830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26C778-CEA3-4459-B880-D069A61FC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7B3821-9E18-4893-98A0-D64FA0BC3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DAB6E5-55DD-4028-887C-8034898A0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D6A89-14A7-4456-BB18-EEE2603B4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8457FC-727F-4825-B9BB-F60E74322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C17E67-E837-4607-9185-6A421B1DD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1A703E-60F5-4225-8F53-865D114D5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45B365-5B99-45B2-B62F-C1A7A971B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0C6CE7-7AFE-4677-B074-3E92F3888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3C37ED-E3FC-491F-A003-72FE3E83D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B1EE89-3AB6-4B14-A131-BB9D50169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CE8F02-35CA-4AB7-A69B-71CDF7A63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4CE552-C5EE-4F97-A73D-87EFF0077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4BFD51-CFC8-4B0D-9AC3-D6642B674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B1240-A530-4F99-9A9D-399514431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17A9DC-6BA9-4549-A9EA-3D86CF017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71A310-03AB-427B-A7F9-1E4049010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047A48-8C53-45DB-AAE0-D8A53A1D6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D70CAC-DDB5-41C3-B927-9FC77064A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ACAB30-5A0B-4778-8B7A-EC5E376CA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2B7C3C-C87F-4B6D-8E65-F6D508061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BD9F96-455F-49D0-A09F-265134C42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F0A2BF-984B-4825-AC84-C8CC24AFE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A6C240-0214-4EDC-9552-91AAA616E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E5326C-10D5-47C4-AF82-1F8EE6440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66E38-C484-4B30-B428-6935E9956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D0CB53-29D3-40DC-B069-C409B1239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63D485-2A70-4343-B0B6-1FF35D534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119073-425C-4F56-825C-3C9D4CCBE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87DA15-629B-4962-8573-9897B989E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AF0521-2770-4C6B-BFB2-AC633E9F2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072795-F0CD-4A9F-9397-EFBF796BE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622201-DA37-4B04-B421-9A267D65B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BDED0A-5938-4E4A-B021-7F2986392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D1ACB9-7BF5-4BD2-865D-E812E5FB4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274DA2-0EF7-4EA5-9A80-6F31A728D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7E741-654C-41B9-BDED-9525DDEB6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CAF750-73F3-4AA7-A6F0-C4F0DD9D1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6E9355-C3FE-41A2-9C8D-CD4FBBDBF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8ADCED-2DF2-4027-80D8-832250FBF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B7D07C-6997-4D3B-894B-E0C5576E7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1DBE73-C04C-47A3-BFEE-953D2CBE8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102379-CD67-4551-8F6C-8AE1F776D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7DD4BE-8620-47E7-A63A-98AA28152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18B992-4C82-4D6F-8E14-9CCF88228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F2137D-C8D7-45A0-BA60-FB2A190FE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1EB8A1-CF10-42E0-86B2-651B36ED1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9B6B6-4AC5-4B61-BF6F-293BEB871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DA75DC-EE95-49C3-9277-5E60A7C0C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FCFBF3-4F05-4868-83B5-9853D623B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A9B8ED-B5F1-45D7-A1E0-F3D7F002A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CFE4F1-F129-4F51-A9B1-493EA11CA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6952D6-ED1F-4E1A-BAC8-D1272B267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E12B7E-C41E-44BA-98A1-30EF6395E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CC1DD2-EDC0-4D81-9E07-E8C97B61C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6B35C6-14C0-4AF6-8A3E-1B31F6077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0E5C4D-DF46-47D8-9E75-38D44E138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C7C5AE-2183-4CF4-A86E-23740C9CE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70DC0-9FF1-4452-9024-FAFC26137D41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12640" y="5346720"/>
            <a:ext cx="8631360" cy="11160"/>
            <a:chOff x="512640" y="5346720"/>
            <a:chExt cx="8631360" cy="111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34672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CD94E-58DE-45D1-8D2C-415772D19C8C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D93B4-1350-480E-BF69-FB1CBF7A68BC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12640" y="3438360"/>
            <a:ext cx="8631360" cy="11160"/>
            <a:chOff x="512640" y="3438360"/>
            <a:chExt cx="8631360" cy="111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34383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248C0-3EDF-4B54-AFA5-E32C50BC85C2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12640" y="6016680"/>
            <a:ext cx="8631360" cy="12600"/>
            <a:chOff x="512640" y="6016680"/>
            <a:chExt cx="8631360" cy="1260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60166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C75CF-7153-463C-AFC3-BBD500A8503E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EE76A-2FF5-40E1-A031-423FD9950142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12640" y="5846760"/>
            <a:ext cx="8631360" cy="11160"/>
            <a:chOff x="512640" y="5846760"/>
            <a:chExt cx="8631360" cy="1116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8467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5D7DF-D46B-48FD-8B4F-57EA7F6B4ADC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DBB53-E429-4D7B-8DD6-A976D3F0276A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76A75-7822-46CD-9E1B-7D0A02548F12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Заголовок 1" descr=""/>
          <p:cNvPicPr/>
          <p:nvPr/>
        </p:nvPicPr>
        <p:blipFill>
          <a:blip r:embed="rId1"/>
          <a:stretch/>
        </p:blipFill>
        <p:spPr>
          <a:xfrm>
            <a:off x="633240" y="530280"/>
            <a:ext cx="8096400" cy="3260520"/>
          </a:xfrm>
          <a:prstGeom prst="rect">
            <a:avLst/>
          </a:prstGeom>
          <a:ln w="0">
            <a:noFill/>
          </a:ln>
        </p:spPr>
      </p:pic>
      <p:sp>
        <p:nvSpPr>
          <p:cNvPr id="407" name="PlaceHolder 1"/>
          <p:cNvSpPr>
            <a:spLocks noGrp="1"/>
          </p:cNvSpPr>
          <p:nvPr>
            <p:ph type="subTitle"/>
          </p:nvPr>
        </p:nvSpPr>
        <p:spPr>
          <a:xfrm>
            <a:off x="395280" y="4869000"/>
            <a:ext cx="8569440" cy="15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43329"/>
                </a:solidFill>
                <a:latin typeface="Franklin Gothic Book"/>
              </a:rPr>
              <a:t>Бычков М. А., к.и.н., доцент кафедры «Гуманитарные и социально-политические науки» Московского государственного университета технологий и управления им. К.Г. Разумовского (Первый казачий университет)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Заголовок 1" descr=""/>
          <p:cNvPicPr/>
          <p:nvPr/>
        </p:nvPicPr>
        <p:blipFill>
          <a:blip r:embed="rId1"/>
          <a:stretch/>
        </p:blipFill>
        <p:spPr>
          <a:xfrm>
            <a:off x="109440" y="457200"/>
            <a:ext cx="8882280" cy="1000080"/>
          </a:xfrm>
          <a:prstGeom prst="rect">
            <a:avLst/>
          </a:prstGeom>
          <a:ln w="0">
            <a:noFill/>
          </a:ln>
        </p:spPr>
      </p:pic>
      <p:sp>
        <p:nvSpPr>
          <p:cNvPr id="425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Письмо МО РФ № 14-51-131 от 14.05.2004 «Методические рекомендации по функциям, организации и работе управляющих советов образовательных учреждений»;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300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Устав образовательной организации;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300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Локальные акты образовательной организации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Заголовок 1" descr=""/>
          <p:cNvPicPr/>
          <p:nvPr/>
        </p:nvPicPr>
        <p:blipFill>
          <a:blip r:embed="rId1"/>
          <a:stretch/>
        </p:blipFill>
        <p:spPr>
          <a:xfrm>
            <a:off x="109440" y="457200"/>
            <a:ext cx="8882280" cy="1000080"/>
          </a:xfrm>
          <a:prstGeom prst="rect">
            <a:avLst/>
          </a:prstGeom>
          <a:ln w="0">
            <a:noFill/>
          </a:ln>
        </p:spPr>
      </p:pic>
      <p:sp>
        <p:nvSpPr>
          <p:cNvPr id="427" name=""/>
          <p:cNvSpPr txBox="1"/>
          <p:nvPr/>
        </p:nvSpPr>
        <p:spPr>
          <a:xfrm>
            <a:off x="324000" y="1341000"/>
            <a:ext cx="86868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300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e3b30"/>
                </a:solidFill>
                <a:latin typeface="Franklin Gothic Book"/>
              </a:rPr>
              <a:t>открытость</a:t>
            </a: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 – вся работа органов самоуправления должна быть открытой для каждого члена коллектива (ассоциации) и обеспечивать получение каждым из них оперативной и достоверной информации;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15360" indent="-315360">
              <a:spcBef>
                <a:spcPts val="300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e3b30"/>
                </a:solidFill>
                <a:latin typeface="Franklin Gothic Book"/>
              </a:rPr>
              <a:t>равноправие</a:t>
            </a: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 – все участники школьного соуправления должны иметь равные права субъектов школьной жизни, право решающего голоса при принятии того или иного решения в своем коллективе или ассоциации;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15360" indent="-315360">
              <a:spcBef>
                <a:spcPts val="300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e3b30"/>
                </a:solidFill>
                <a:latin typeface="Franklin Gothic Book"/>
              </a:rPr>
              <a:t>выборность</a:t>
            </a: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 – в соответствии с ним органы соуправления приобретают соответствующие полномочия в результате полномочных выборов;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15360" indent="-315360">
              <a:spcBef>
                <a:spcPts val="300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Заголовок 1" descr=""/>
          <p:cNvPicPr/>
          <p:nvPr/>
        </p:nvPicPr>
        <p:blipFill>
          <a:blip r:embed="rId1"/>
          <a:stretch/>
        </p:blipFill>
        <p:spPr>
          <a:xfrm>
            <a:off x="109440" y="457200"/>
            <a:ext cx="8882280" cy="1000080"/>
          </a:xfrm>
          <a:prstGeom prst="rect">
            <a:avLst/>
          </a:prstGeom>
          <a:ln w="0">
            <a:noFill/>
          </a:ln>
        </p:spPr>
      </p:pic>
      <p:sp>
        <p:nvSpPr>
          <p:cNvPr id="429" name=""/>
          <p:cNvSpPr txBox="1"/>
          <p:nvPr/>
        </p:nvSpPr>
        <p:spPr>
          <a:xfrm>
            <a:off x="324000" y="1341000"/>
            <a:ext cx="86868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300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e3b30"/>
                </a:solidFill>
                <a:latin typeface="Franklin Gothic Book"/>
              </a:rPr>
              <a:t>демократичность</a:t>
            </a: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 – предполагается вовлечение в самоуправленческую деятельность всех участников образовательного процесса;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>
              <a:spcBef>
                <a:spcPts val="300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e3b30"/>
                </a:solidFill>
                <a:latin typeface="Franklin Gothic Book"/>
              </a:rPr>
              <a:t>законность</a:t>
            </a: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 – необходимость неукоснительного следования органов соуправления положениям Конституции РФ и другим государственным правовым актам, уставу школы и ее локальным нормативным документам;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>
              <a:spcBef>
                <a:spcPts val="300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e3b30"/>
                </a:solidFill>
                <a:latin typeface="Franklin Gothic Book"/>
              </a:rPr>
              <a:t>целесообразность</a:t>
            </a: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 – деятельность органа соуправления должна быть направлена на реализацию потребностей и интересов детей, их родителей и педагогов;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>
              <a:spcBef>
                <a:spcPts val="300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>
              <a:spcBef>
                <a:spcPts val="300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Заголовок 1" descr=""/>
          <p:cNvPicPr/>
          <p:nvPr/>
        </p:nvPicPr>
        <p:blipFill>
          <a:blip r:embed="rId1"/>
          <a:stretch/>
        </p:blipFill>
        <p:spPr>
          <a:xfrm>
            <a:off x="109440" y="457200"/>
            <a:ext cx="8882280" cy="1000080"/>
          </a:xfrm>
          <a:prstGeom prst="rect">
            <a:avLst/>
          </a:prstGeom>
          <a:ln w="0">
            <a:noFill/>
          </a:ln>
        </p:spPr>
      </p:pic>
      <p:sp>
        <p:nvSpPr>
          <p:cNvPr id="431" name=""/>
          <p:cNvSpPr txBox="1"/>
          <p:nvPr/>
        </p:nvSpPr>
        <p:spPr>
          <a:xfrm>
            <a:off x="431640" y="1268280"/>
            <a:ext cx="868680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300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e3b30"/>
                </a:solidFill>
                <a:latin typeface="Franklin Gothic Book"/>
              </a:rPr>
              <a:t>представительство</a:t>
            </a: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 – первичные коллективы должны иметь своих представителей в избираемых ими органах соуправления;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08520" indent="-308520">
              <a:spcBef>
                <a:spcPts val="300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e3b30"/>
                </a:solidFill>
                <a:latin typeface="Franklin Gothic Book"/>
              </a:rPr>
              <a:t>гуманность</a:t>
            </a: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 – органы соуправления должны действовать на основе нравственных ценностей народов России, меры ответственности и наказания должны быть строгими, но гуманными, не унижать достоинство взрослого или ребенка;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08520" indent="-308520">
              <a:spcBef>
                <a:spcPts val="300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e3b30"/>
                </a:solidFill>
                <a:latin typeface="Franklin Gothic Book"/>
              </a:rPr>
              <a:t>коллегиальность и персональность</a:t>
            </a: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 – коллегиальное принятие управленческих решений и обеспечение персональной ответственности за выполнение каждого решения;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08520" indent="-308520">
              <a:spcBef>
                <a:spcPts val="300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Заголовок 1" descr=""/>
          <p:cNvPicPr/>
          <p:nvPr/>
        </p:nvPicPr>
        <p:blipFill>
          <a:blip r:embed="rId1"/>
          <a:stretch/>
        </p:blipFill>
        <p:spPr>
          <a:xfrm>
            <a:off x="109440" y="457200"/>
            <a:ext cx="8882280" cy="1000080"/>
          </a:xfrm>
          <a:prstGeom prst="rect">
            <a:avLst/>
          </a:prstGeom>
          <a:ln w="0">
            <a:noFill/>
          </a:ln>
        </p:spPr>
      </p:pic>
      <p:sp>
        <p:nvSpPr>
          <p:cNvPr id="433" name=""/>
          <p:cNvSpPr txBox="1"/>
          <p:nvPr/>
        </p:nvSpPr>
        <p:spPr>
          <a:xfrm>
            <a:off x="324000" y="1196640"/>
            <a:ext cx="86868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300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e3b30"/>
                </a:solidFill>
                <a:latin typeface="Franklin Gothic Book"/>
              </a:rPr>
              <a:t>совет и согласие</a:t>
            </a: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 – перед принятием решения необходимо советоваться, принимать решение на основе согласия всех или большинства членов органа соуправления;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18960" indent="-318960">
              <a:spcBef>
                <a:spcPts val="300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e3b30"/>
                </a:solidFill>
                <a:latin typeface="Franklin Gothic Book"/>
              </a:rPr>
              <a:t>распределение полномочий</a:t>
            </a: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 – четко распределены властные полномочия и ответственность между всеми органами школьного соуправления;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18960" indent="-318960">
              <a:spcBef>
                <a:spcPts val="300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e3b30"/>
                </a:solidFill>
                <a:latin typeface="Franklin Gothic Book"/>
              </a:rPr>
              <a:t>отчетность</a:t>
            </a: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 – все избранные органы соуправления и их члены регулярно (не реже одного раза в полугодие) отчитываются перед своими избирателями о проделанной ими работе и ее результатах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18960" indent="-31896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18960" indent="-31896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18960" indent="-31896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4" name="Заголовок 1" descr=""/>
          <p:cNvPicPr/>
          <p:nvPr/>
        </p:nvPicPr>
        <p:blipFill>
          <a:blip r:embed="rId1"/>
          <a:stretch/>
        </p:blipFill>
        <p:spPr>
          <a:xfrm>
            <a:off x="146160" y="268200"/>
            <a:ext cx="8845560" cy="1359000"/>
          </a:xfrm>
          <a:prstGeom prst="rect">
            <a:avLst/>
          </a:prstGeom>
          <a:ln w="0">
            <a:noFill/>
          </a:ln>
        </p:spPr>
      </p:pic>
      <p:sp>
        <p:nvSpPr>
          <p:cNvPr id="435" name=""/>
          <p:cNvSpPr txBox="1"/>
          <p:nvPr/>
        </p:nvSpPr>
        <p:spPr>
          <a:xfrm>
            <a:off x="324000" y="1557000"/>
            <a:ext cx="86868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300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привлечение в образовательную организацию дополнительных ресурсов;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>
              <a:spcBef>
                <a:spcPts val="300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обеспечение материально-технического развития образовательной организации;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>
              <a:spcBef>
                <a:spcPts val="300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удовлетворение актуальных образовательных запросов семьи и общества;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>
              <a:spcBef>
                <a:spcPts val="300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разрешение возникающих конфликтных ситуаций между участниками образовательного процесса;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>
              <a:spcBef>
                <a:spcPts val="300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развитие культуры управления (менеджмента) в образовательной организации;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>
              <a:spcBef>
                <a:spcPts val="300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расширение социального партнерства;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6" name="Заголовок 1" descr=""/>
          <p:cNvPicPr/>
          <p:nvPr/>
        </p:nvPicPr>
        <p:blipFill>
          <a:blip r:embed="rId1"/>
          <a:stretch/>
        </p:blipFill>
        <p:spPr>
          <a:xfrm>
            <a:off x="146160" y="268200"/>
            <a:ext cx="8845560" cy="1359000"/>
          </a:xfrm>
          <a:prstGeom prst="rect">
            <a:avLst/>
          </a:prstGeom>
          <a:ln w="0">
            <a:noFill/>
          </a:ln>
        </p:spPr>
      </p:pic>
      <p:sp>
        <p:nvSpPr>
          <p:cNvPr id="437" name=""/>
          <p:cNvSpPr txBox="1"/>
          <p:nvPr/>
        </p:nvSpPr>
        <p:spPr>
          <a:xfrm>
            <a:off x="304920" y="1554120"/>
            <a:ext cx="8686800" cy="50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300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4e3b30"/>
                </a:solidFill>
                <a:latin typeface="Franklin Gothic Book"/>
              </a:rPr>
              <a:t>рост интереса и активности родителей, обучающихся, представителей общества к участию в управлении школой, помощи образовательной организации;</a:t>
            </a:r>
            <a:endParaRPr b="0" lang="en-US" sz="27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spcBef>
                <a:spcPts val="300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4e3b30"/>
                </a:solidFill>
                <a:latin typeface="Franklin Gothic Book"/>
              </a:rPr>
              <a:t>принятие (повышение) ответственности общественности в отношении школы;</a:t>
            </a:r>
            <a:endParaRPr b="0" lang="en-US" sz="27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spcBef>
                <a:spcPts val="300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4e3b30"/>
                </a:solidFill>
                <a:latin typeface="Franklin Gothic Book"/>
              </a:rPr>
              <a:t>рост доверия общества к школе, результатам ее деятельности, улучшение имиджа школы;</a:t>
            </a:r>
            <a:endParaRPr b="0" lang="en-US" sz="27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spcBef>
                <a:spcPts val="300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4e3b30"/>
                </a:solidFill>
                <a:latin typeface="Franklin Gothic Book"/>
              </a:rPr>
              <a:t>рост качества образования как следствие влияния привлечения общественности к оценке и стимулированию качества образования;</a:t>
            </a:r>
            <a:endParaRPr b="0" lang="en-US" sz="27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8" name="Заголовок 1" descr=""/>
          <p:cNvPicPr/>
          <p:nvPr/>
        </p:nvPicPr>
        <p:blipFill>
          <a:blip r:embed="rId1"/>
          <a:stretch/>
        </p:blipFill>
        <p:spPr>
          <a:xfrm>
            <a:off x="146160" y="268200"/>
            <a:ext cx="8845560" cy="1359000"/>
          </a:xfrm>
          <a:prstGeom prst="rect">
            <a:avLst/>
          </a:prstGeom>
          <a:ln w="0">
            <a:noFill/>
          </a:ln>
        </p:spPr>
      </p:pic>
      <p:sp>
        <p:nvSpPr>
          <p:cNvPr id="439" name=""/>
          <p:cNvSpPr txBox="1"/>
          <p:nvPr/>
        </p:nvSpPr>
        <p:spPr>
          <a:xfrm>
            <a:off x="304920" y="1553760"/>
            <a:ext cx="8686800" cy="49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300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обеспечение защиты образовательной организации;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18960" indent="-318960">
              <a:spcBef>
                <a:spcPts val="300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повышение открытости системы образовательной организации для преодоления корпоративно-профессиональной замкнутости системы в определении содержания образования, стандартов деятельности системы образования и оценке её результативности;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18960" indent="-318960">
              <a:spcBef>
                <a:spcPts val="300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реализация права субъектов образовательного процесса (учителей, обучающихся, их родителей) в управлении образовательной организацией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18960" indent="-318960">
              <a:spcBef>
                <a:spcPts val="700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18960" indent="-318960">
              <a:spcBef>
                <a:spcPts val="700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0" name="Заголовок 1" descr=""/>
          <p:cNvPicPr/>
          <p:nvPr/>
        </p:nvPicPr>
        <p:blipFill>
          <a:blip r:embed="rId1"/>
          <a:stretch/>
        </p:blipFill>
        <p:spPr>
          <a:xfrm>
            <a:off x="19080" y="73080"/>
            <a:ext cx="9075600" cy="1353960"/>
          </a:xfrm>
          <a:prstGeom prst="rect">
            <a:avLst/>
          </a:prstGeom>
          <a:ln w="0">
            <a:noFill/>
          </a:ln>
        </p:spPr>
      </p:pic>
      <p:sp>
        <p:nvSpPr>
          <p:cNvPr id="441" name=""/>
          <p:cNvSpPr txBox="1"/>
          <p:nvPr/>
        </p:nvSpPr>
        <p:spPr>
          <a:xfrm>
            <a:off x="324000" y="1268280"/>
            <a:ext cx="86868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300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соблюдение законности в деятельности всех органов государственно-общественного управления;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18960" indent="-318960">
              <a:spcBef>
                <a:spcPts val="300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реализация и защита прав и законных интересов участников образовательного процесса;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18960" indent="-318960">
              <a:spcBef>
                <a:spcPts val="300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приоритетность качества образования и жизни обучающихся для систем управления образованием;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18960" indent="-318960">
              <a:spcBef>
                <a:spcPts val="300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добровольность участия общественности в государственно-общественном управлении образовательной организацией;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18960" indent="-318960">
              <a:spcBef>
                <a:spcPts val="300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принятие решений на основе достоверной информации о деятельности школы;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18960" indent="-318960">
              <a:spcBef>
                <a:spcPts val="300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2" name="Заголовок 1" descr=""/>
          <p:cNvPicPr/>
          <p:nvPr/>
        </p:nvPicPr>
        <p:blipFill>
          <a:blip r:embed="rId1"/>
          <a:stretch/>
        </p:blipFill>
        <p:spPr>
          <a:xfrm>
            <a:off x="19080" y="146160"/>
            <a:ext cx="9075600" cy="1353960"/>
          </a:xfrm>
          <a:prstGeom prst="rect">
            <a:avLst/>
          </a:prstGeom>
          <a:ln w="0">
            <a:noFill/>
          </a:ln>
        </p:spPr>
      </p:pic>
      <p:sp>
        <p:nvSpPr>
          <p:cNvPr id="443" name=""/>
          <p:cNvSpPr txBox="1"/>
          <p:nvPr/>
        </p:nvSpPr>
        <p:spPr>
          <a:xfrm>
            <a:off x="324000" y="1413000"/>
            <a:ext cx="868680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300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участие общественных органов в управлении всеми направлениями деятельности образовательной организации;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>
              <a:spcBef>
                <a:spcPts val="300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сохранение разумного баланса государственной и общественной составляющих в системе государственно-общественного управления школой;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>
              <a:spcBef>
                <a:spcPts val="300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открытость и доступность информации о государственно-общественном управлении образовательной организацией;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>
              <a:spcBef>
                <a:spcPts val="300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контроль над соблюдением прав участников образовательного процесса.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Заголовок 1" descr=""/>
          <p:cNvPicPr/>
          <p:nvPr/>
        </p:nvPicPr>
        <p:blipFill>
          <a:blip r:embed="rId1"/>
          <a:stretch/>
        </p:blipFill>
        <p:spPr>
          <a:xfrm>
            <a:off x="146160" y="268200"/>
            <a:ext cx="8845560" cy="1359000"/>
          </a:xfrm>
          <a:prstGeom prst="rect">
            <a:avLst/>
          </a:prstGeom>
          <a:ln w="0">
            <a:noFill/>
          </a:ln>
        </p:spPr>
      </p:pic>
      <p:sp>
        <p:nvSpPr>
          <p:cNvPr id="409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Отличительной чертой развития образовательной среды является активная реализация принципа государственно-общественного управления образованием. Основная задача, поставленная в этой связи – повышение открытости образовательной среды, привлечение общественности к решению проблем образования: содержательных и материально-финансовых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4" name="Заголовок 1" descr=""/>
          <p:cNvPicPr/>
          <p:nvPr/>
        </p:nvPicPr>
        <p:blipFill>
          <a:blip r:embed="rId1"/>
          <a:stretch/>
        </p:blipFill>
        <p:spPr>
          <a:xfrm>
            <a:off x="109440" y="457200"/>
            <a:ext cx="8882280" cy="1000080"/>
          </a:xfrm>
          <a:prstGeom prst="rect">
            <a:avLst/>
          </a:prstGeom>
          <a:ln w="0">
            <a:noFill/>
          </a:ln>
        </p:spPr>
      </p:pic>
      <p:sp>
        <p:nvSpPr>
          <p:cNvPr id="445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1. Управляющий совет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2. Наблюдательный совет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3. Попечительский совет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4. Родительский комитет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5. Педагогический совет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6. Общее собрание работников организации.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"/>
          <p:cNvSpPr txBox="1"/>
          <p:nvPr/>
        </p:nvSpPr>
        <p:spPr>
          <a:xfrm>
            <a:off x="304920" y="115560"/>
            <a:ext cx="8686800" cy="596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Вариативные формы государственно-общественного управления определяют: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300"/>
              </a:spcBef>
              <a:buClr>
                <a:srgbClr val="f0a22e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выявленные возможности и ресурсные дефициты образовательной организации;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300"/>
              </a:spcBef>
              <a:buClr>
                <a:srgbClr val="f0a22e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потенциальные формы участия общественности в управлении образованием;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300"/>
              </a:spcBef>
              <a:buClr>
                <a:srgbClr val="f0a22e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условия для реализации конкретной модели государственно-общественного управления в образовательной организации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"/>
          <p:cNvSpPr txBox="1"/>
          <p:nvPr/>
        </p:nvSpPr>
        <p:spPr>
          <a:xfrm>
            <a:off x="304920" y="115920"/>
            <a:ext cx="8686800" cy="662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В практике осуществления государственно-общественного управления на уровне общеобразовательной организации сформировалась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e3b30"/>
                </a:solidFill>
                <a:latin typeface="Franklin Gothic Book"/>
              </a:rPr>
              <a:t>интегральная модель – управляющий совет</a:t>
            </a: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Все остальные реализуемые на практике формы самоуправления и коллегиального управления являются в теоретическом плане частными случаями управляющего совета, а в практическом, организационно-управленческом плане – являются формами реализации отдельных сторон, свойств, функций и признаков управляющего совета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8" name="Заголовок 1" descr=""/>
          <p:cNvPicPr/>
          <p:nvPr/>
        </p:nvPicPr>
        <p:blipFill>
          <a:blip r:embed="rId1"/>
          <a:stretch/>
        </p:blipFill>
        <p:spPr>
          <a:xfrm>
            <a:off x="165240" y="60480"/>
            <a:ext cx="8845560" cy="866520"/>
          </a:xfrm>
          <a:prstGeom prst="rect">
            <a:avLst/>
          </a:prstGeom>
          <a:ln w="0">
            <a:noFill/>
          </a:ln>
        </p:spPr>
      </p:pic>
      <p:sp>
        <p:nvSpPr>
          <p:cNvPr id="449" name=""/>
          <p:cNvSpPr txBox="1"/>
          <p:nvPr/>
        </p:nvSpPr>
        <p:spPr>
          <a:xfrm>
            <a:off x="304920" y="1125360"/>
            <a:ext cx="868680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300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стратегические цели, направления и приоритеты развития общеобразовательной организации;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>
              <a:spcBef>
                <a:spcPts val="300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программу развития образовательной организации, включая стратегию развития образовательных программ и технологий;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>
              <a:spcBef>
                <a:spcPts val="300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ежегодный публичный доклад образовательной организации;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>
              <a:spcBef>
                <a:spcPts val="300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стимулирующей части фонда оплаты труда работников и административно-локальный акт о порядке и критериях распределения правленческого персонала образовательной организации;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"/>
          <p:cNvSpPr txBox="1"/>
          <p:nvPr/>
        </p:nvSpPr>
        <p:spPr>
          <a:xfrm>
            <a:off x="304920" y="1052280"/>
            <a:ext cx="8686800" cy="31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требования к одежде обучающегося в соответствии с законодательством субъекта РФ;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300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локальные правовые акты организации, регламентирующие организацию деятельности управляющего совета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51" name="Заголовок 1" descr=""/>
          <p:cNvPicPr/>
          <p:nvPr/>
        </p:nvPicPr>
        <p:blipFill>
          <a:blip r:embed="rId1"/>
          <a:stretch/>
        </p:blipFill>
        <p:spPr>
          <a:xfrm>
            <a:off x="146160" y="109440"/>
            <a:ext cx="884556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2" name="Заголовок 1" descr=""/>
          <p:cNvPicPr/>
          <p:nvPr/>
        </p:nvPicPr>
        <p:blipFill>
          <a:blip r:embed="rId1"/>
          <a:stretch/>
        </p:blipFill>
        <p:spPr>
          <a:xfrm>
            <a:off x="146160" y="109440"/>
            <a:ext cx="8845560" cy="87156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 txBox="1"/>
          <p:nvPr/>
        </p:nvSpPr>
        <p:spPr>
          <a:xfrm>
            <a:off x="304920" y="1052640"/>
            <a:ext cx="86868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300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режим работы образовательной организации;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08520" indent="-308520">
              <a:spcBef>
                <a:spcPts val="300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план мероприятий создания здоровых и безопасных условий обучения и воспитания в образовательной организации;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08520" indent="-308520">
              <a:spcBef>
                <a:spcPts val="300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образовательную программу (программы) и профили обучения, обеспечивающих углубленное изучение отдельных учебных предметов, предметных областей образовательной программы среднего общего образования;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08520" indent="-308520">
              <a:spcBef>
                <a:spcPts val="300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локальный акт о порядке оказания платных образовательных услуг, об утверждении стоимости обучения по каждой образовательной программе;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4" name="Заголовок 1" descr=""/>
          <p:cNvPicPr/>
          <p:nvPr/>
        </p:nvPicPr>
        <p:blipFill>
          <a:blip r:embed="rId1"/>
          <a:stretch/>
        </p:blipFill>
        <p:spPr>
          <a:xfrm>
            <a:off x="109440" y="457200"/>
            <a:ext cx="8882280" cy="1000080"/>
          </a:xfrm>
          <a:prstGeom prst="rect">
            <a:avLst/>
          </a:prstGeom>
          <a:ln w="0">
            <a:noFill/>
          </a:ln>
        </p:spPr>
      </p:pic>
      <p:sp>
        <p:nvSpPr>
          <p:cNvPr id="455" name=""/>
          <p:cNvSpPr txBox="1"/>
          <p:nvPr/>
        </p:nvSpPr>
        <p:spPr>
          <a:xfrm>
            <a:off x="304920" y="1553760"/>
            <a:ext cx="8686800" cy="489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300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образец договора об оказании платных образовательных услуг;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15360" indent="-315360">
              <a:spcBef>
                <a:spcPts val="300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локальный акт об оплате труда работников образовательной организации;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15360" indent="-315360">
              <a:spcBef>
                <a:spcPts val="300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локальный акт об установлении порядка деятельности в образовательной организации и взаимодействия с образовательной организацией общественных объединений и некоммерческих организаций, участие образовательной организации в образовательных объединениях, ассоциациях (союзах);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6" name="Заголовок 1" descr=""/>
          <p:cNvPicPr/>
          <p:nvPr/>
        </p:nvPicPr>
        <p:blipFill>
          <a:blip r:embed="rId1"/>
          <a:stretch/>
        </p:blipFill>
        <p:spPr>
          <a:xfrm>
            <a:off x="109440" y="457200"/>
            <a:ext cx="8882280" cy="1000080"/>
          </a:xfrm>
          <a:prstGeom prst="rect">
            <a:avLst/>
          </a:prstGeom>
          <a:ln w="0">
            <a:noFill/>
          </a:ln>
        </p:spPr>
      </p:pic>
      <p:sp>
        <p:nvSpPr>
          <p:cNvPr id="457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положение о порядке текущего контроля и промежуточной аттестации обучающихся;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300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план повышения квалификации педагогических работников образовательной организации;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300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положения о структурных подразделениях (в том числе филиалах, представительствах) образовательной организации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8" name="Заголовок 1" descr=""/>
          <p:cNvPicPr/>
          <p:nvPr/>
        </p:nvPicPr>
        <p:blipFill>
          <a:blip r:embed="rId1"/>
          <a:stretch/>
        </p:blipFill>
        <p:spPr>
          <a:xfrm>
            <a:off x="176040" y="-139680"/>
            <a:ext cx="8894880" cy="1706400"/>
          </a:xfrm>
          <a:prstGeom prst="rect">
            <a:avLst/>
          </a:prstGeom>
          <a:ln w="0">
            <a:noFill/>
          </a:ln>
        </p:spPr>
      </p:pic>
      <p:sp>
        <p:nvSpPr>
          <p:cNvPr id="459" name=""/>
          <p:cNvSpPr txBox="1"/>
          <p:nvPr/>
        </p:nvSpPr>
        <p:spPr>
          <a:xfrm>
            <a:off x="324000" y="1341360"/>
            <a:ext cx="86868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3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содержание зданий и сооружений образовательной организации и прилегающей к ним территории;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05280" indent="-305280">
              <a:spcBef>
                <a:spcPts val="3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кандидатура руководителя общеобразовательной организации;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05280" indent="-305280">
              <a:spcBef>
                <a:spcPts val="3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стимулирующие выплаты руководителю общеобразовательной организации;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05280" indent="-305280">
              <a:spcBef>
                <a:spcPts val="3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расторжение трудового договора с руководителем общеобразовательной организации (с обоснованием);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05280" indent="-305280">
              <a:spcBef>
                <a:spcPts val="3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другие вопросам деятельности и функционирования общеобразовательной организации, отнесенные к компетенции учредителя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05280" indent="-305280">
              <a:spcBef>
                <a:spcPts val="3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"/>
          <p:cNvSpPr txBox="1"/>
          <p:nvPr/>
        </p:nvSpPr>
        <p:spPr>
          <a:xfrm>
            <a:off x="304920" y="1197000"/>
            <a:ext cx="8686800" cy="488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Управляющий совет вносит рекомендации и предложения директору школы о заключении и расторжении трудовых договоров с работниками, а также по другим вопросам, отнесенным к компетенции руководителя образовательной организации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Заголовок 1" descr=""/>
          <p:cNvPicPr/>
          <p:nvPr/>
        </p:nvPicPr>
        <p:blipFill>
          <a:blip r:embed="rId1"/>
          <a:stretch/>
        </p:blipFill>
        <p:spPr>
          <a:xfrm>
            <a:off x="146160" y="268200"/>
            <a:ext cx="8845560" cy="135900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 txBox="1"/>
          <p:nvPr/>
        </p:nvSpPr>
        <p:spPr>
          <a:xfrm>
            <a:off x="108000" y="1484280"/>
            <a:ext cx="890280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e3b30"/>
                </a:solidFill>
                <a:latin typeface="Franklin Gothic Book"/>
              </a:rPr>
              <a:t>Целью</a:t>
            </a:r>
            <a:r>
              <a:rPr b="0" i="1" lang="ru-RU" sz="2800" spc="-1" strike="noStrike">
                <a:solidFill>
                  <a:srgbClr val="4e3b30"/>
                </a:solidFill>
                <a:latin typeface="Franklin Gothic Book"/>
              </a:rPr>
              <a:t> системы государственно-общественного управления </a:t>
            </a: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образовательной организацией является постановка проблемы функционирования и развития образования в центр внимания общественности, расширение коллегиальных, демократических форм управления, воплощение в жизнь государственно-общественных принципов управления; развития социального партнерства в системе образования как путь решения актуальных проблем развития и модернизации образования через внедрение механизма общественного управления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В любом случае, в образовательной организации предусматривается создание </a:t>
            </a: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двух обязательных коллегиальных органов управления: общее собрание работников организации и педагогический совет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. Компетенция управляющего совета должна быть согласована с компетенцией данных органов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Составной частью общей системы школьного самоуправления является самоуправление педагогического коллектива и родительское самоуправление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 txBox="1"/>
          <p:nvPr/>
        </p:nvSpPr>
        <p:spPr>
          <a:xfrm>
            <a:off x="304920" y="981000"/>
            <a:ext cx="86868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buClr>
                <a:srgbClr val="f0a22e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Педагогический совет является одной из форм постоянно действующих органов школьного самоуправления для рассмотрения основных вопросов организации образовательного процесса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300"/>
              </a:spcBef>
              <a:buClr>
                <a:srgbClr val="f0a22e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В состав педагогического совета входят: директор образовательной организации (как правило, в должности председателя), его заместители, учителя, воспитатели, врач, педагоги-психологи, социальные педагоги, библиотекарь, руководитель Управляющего совета (с правом совещательного голоса)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"/>
          <p:cNvSpPr txBox="1"/>
          <p:nvPr/>
        </p:nvSpPr>
        <p:spPr>
          <a:xfrm>
            <a:off x="304920" y="1052280"/>
            <a:ext cx="868680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buClr>
                <a:srgbClr val="f0a22e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Формы родительского самоуправления: родительские комитеты, благотворительные фонды, родительские клубы, советы отцов, советы матерей, университеты педагогических знаний и др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300"/>
              </a:spcBef>
              <a:buClr>
                <a:srgbClr val="f0a22e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Структура родительского самоуправления состоит из 3-х уровней: индивидуальный, классный, общешкольный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300"/>
              </a:spcBef>
              <a:buClr>
                <a:srgbClr val="f0a22e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Высший орган самоуправления родителей – родительская конференция, созываемая не реже 1-го раза в год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5" name="Заголовок 1" descr=""/>
          <p:cNvPicPr/>
          <p:nvPr/>
        </p:nvPicPr>
        <p:blipFill>
          <a:blip r:embed="rId1"/>
          <a:stretch/>
        </p:blipFill>
        <p:spPr>
          <a:xfrm>
            <a:off x="146160" y="-49320"/>
            <a:ext cx="8845560" cy="1841760"/>
          </a:xfrm>
          <a:prstGeom prst="rect">
            <a:avLst/>
          </a:prstGeom>
          <a:ln w="0">
            <a:noFill/>
          </a:ln>
        </p:spPr>
      </p:pic>
      <p:sp>
        <p:nvSpPr>
          <p:cNvPr id="466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принимать в установленном порядке устав, изменения и дополнения к нему, а также коллективный договор и правила внутреннего распорядка организации;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300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избирать представителей работников в комиссию по трудовым спорам;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300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утверждать коллективные требования к работодателю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7" name="Заголовок 1" descr=""/>
          <p:cNvPicPr/>
          <p:nvPr/>
        </p:nvPicPr>
        <p:blipFill>
          <a:blip r:embed="rId1"/>
          <a:stretch/>
        </p:blipFill>
        <p:spPr>
          <a:xfrm>
            <a:off x="109440" y="457200"/>
            <a:ext cx="8882280" cy="1000080"/>
          </a:xfrm>
          <a:prstGeom prst="rect">
            <a:avLst/>
          </a:prstGeom>
          <a:ln w="0">
            <a:noFill/>
          </a:ln>
        </p:spPr>
      </p:pic>
      <p:sp>
        <p:nvSpPr>
          <p:cNvPr id="468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Педагогический коллектив, администрация школы и родительский актив разрабатывают концепцию юридического закрепления партнерства с родителями в виде индивидуальных или коллективных (по классам) договоров о совместной образовательной и воспитательной деятельности (договор простого товарищества, гл. 55 ГК РФ).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9" name="Заголовок 1" descr=""/>
          <p:cNvPicPr/>
          <p:nvPr/>
        </p:nvPicPr>
        <p:blipFill>
          <a:blip r:embed="rId1"/>
          <a:stretch/>
        </p:blipFill>
        <p:spPr>
          <a:xfrm>
            <a:off x="109440" y="457200"/>
            <a:ext cx="8882280" cy="1000080"/>
          </a:xfrm>
          <a:prstGeom prst="rect">
            <a:avLst/>
          </a:prstGeom>
          <a:ln w="0">
            <a:noFill/>
          </a:ln>
        </p:spPr>
      </p:pic>
      <p:sp>
        <p:nvSpPr>
          <p:cNvPr id="470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Администрация школы и родительский актив разрабатывает концепцию, структуру, порядок функционирования трехсекционного Совета школы, включающего представителей педагогического коллектива, родительской общественности и учеников старших классов и предлагает для обсуждения родителям и старшеклассникам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1" name="Заголовок 1" descr=""/>
          <p:cNvPicPr/>
          <p:nvPr/>
        </p:nvPicPr>
        <p:blipFill>
          <a:blip r:embed="rId1"/>
          <a:stretch/>
        </p:blipFill>
        <p:spPr>
          <a:xfrm>
            <a:off x="109440" y="457200"/>
            <a:ext cx="8882280" cy="1000080"/>
          </a:xfrm>
          <a:prstGeom prst="rect">
            <a:avLst/>
          </a:prstGeom>
          <a:ln w="0">
            <a:noFill/>
          </a:ln>
        </p:spPr>
      </p:pic>
      <p:sp>
        <p:nvSpPr>
          <p:cNvPr id="472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Учрежденный родителями и педагогами благотворительный общественный Фонд попечительства над школой разрабатывает концепцию активизации своей работы в местном сообществе, переходит от использования исключительно родительских пожертвований к привлечению новых внебюджетных ресурсов, к включению в благотворительность большего круга лиц и организаций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pic>
        <p:nvPicPr>
          <p:cNvPr id="474" name="Picture 2" descr=""/>
          <p:cNvPicPr/>
          <p:nvPr/>
        </p:nvPicPr>
        <p:blipFill>
          <a:blip r:embed="rId1"/>
          <a:stretch/>
        </p:blipFill>
        <p:spPr>
          <a:xfrm>
            <a:off x="324000" y="115920"/>
            <a:ext cx="8351640" cy="648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5" name="Заголовок 1" descr=""/>
          <p:cNvPicPr/>
          <p:nvPr/>
        </p:nvPicPr>
        <p:blipFill>
          <a:blip r:embed="rId1"/>
          <a:stretch/>
        </p:blipFill>
        <p:spPr>
          <a:xfrm>
            <a:off x="146160" y="23760"/>
            <a:ext cx="8845560" cy="1847880"/>
          </a:xfrm>
          <a:prstGeom prst="rect">
            <a:avLst/>
          </a:prstGeom>
          <a:ln w="0">
            <a:noFill/>
          </a:ln>
        </p:spPr>
      </p:pic>
      <p:sp>
        <p:nvSpPr>
          <p:cNvPr id="476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4e3b30"/>
                </a:solidFill>
                <a:latin typeface="Franklin Gothic Book"/>
              </a:rPr>
              <a:t>1. Теоретическая часть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15360" indent="-315360">
              <a:spcBef>
                <a:spcPts val="799"/>
              </a:spcBef>
              <a:buClr>
                <a:srgbClr val="f0a22e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1.1. Определение и обоснование целевых функций модели государственно-общественного управления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15360" indent="-315360">
              <a:spcBef>
                <a:spcPts val="799"/>
              </a:spcBef>
              <a:buClr>
                <a:srgbClr val="f0a22e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1.2. Гипотеза достижения целевой функции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15360" indent="-315360">
              <a:spcBef>
                <a:spcPts val="799"/>
              </a:spcBef>
              <a:buClr>
                <a:srgbClr val="f0a22e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1.3. Определение компонентов деятельности (цель, содержание, инструмент, методы, результат)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Заголовок 1" descr=""/>
          <p:cNvPicPr/>
          <p:nvPr/>
        </p:nvPicPr>
        <p:blipFill>
          <a:blip r:embed="rId1"/>
          <a:stretch/>
        </p:blipFill>
        <p:spPr>
          <a:xfrm>
            <a:off x="146160" y="268200"/>
            <a:ext cx="8845560" cy="1359000"/>
          </a:xfrm>
          <a:prstGeom prst="rect">
            <a:avLst/>
          </a:prstGeom>
          <a:ln w="0">
            <a:noFill/>
          </a:ln>
        </p:spPr>
      </p:pic>
      <p:sp>
        <p:nvSpPr>
          <p:cNvPr id="413" name=""/>
          <p:cNvSpPr txBox="1"/>
          <p:nvPr/>
        </p:nvSpPr>
        <p:spPr>
          <a:xfrm>
            <a:off x="324000" y="1483920"/>
            <a:ext cx="86868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достижения поставленной цели должны быть решены задач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точнение миссии образовательной организации в социуме;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пространение эффективных моделей государственно-общественного управления, публичной отчетности и общественной экспертизы;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системы подготовки всех категорий общественных управляющих – членов органов государственно-общественного управления;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7" name="Заголовок 1" descr=""/>
          <p:cNvPicPr/>
          <p:nvPr/>
        </p:nvPicPr>
        <p:blipFill>
          <a:blip r:embed="rId1"/>
          <a:stretch/>
        </p:blipFill>
        <p:spPr>
          <a:xfrm>
            <a:off x="146160" y="23760"/>
            <a:ext cx="8845560" cy="1847880"/>
          </a:xfrm>
          <a:prstGeom prst="rect">
            <a:avLst/>
          </a:prstGeom>
          <a:ln w="0">
            <a:noFill/>
          </a:ln>
        </p:spPr>
      </p:pic>
      <p:sp>
        <p:nvSpPr>
          <p:cNvPr id="478" name=""/>
          <p:cNvSpPr txBox="1"/>
          <p:nvPr/>
        </p:nvSpPr>
        <p:spPr>
          <a:xfrm>
            <a:off x="304920" y="1554120"/>
            <a:ext cx="8686800" cy="50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0a22e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1.4. Определение структуры деятельности (субъекты и средства деятельности, связи между ними)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spcBef>
                <a:spcPts val="799"/>
              </a:spcBef>
              <a:buClr>
                <a:srgbClr val="f0a22e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1.5. Нормативно-правовая база как основа деятельности (федеральные и региональные документы, регламентирующие деятельность, положение о Совете, изменения в Уставе образовательной организации, приказы, распоряжения)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9" name="Заголовок 1" descr=""/>
          <p:cNvPicPr/>
          <p:nvPr/>
        </p:nvPicPr>
        <p:blipFill>
          <a:blip r:embed="rId1"/>
          <a:stretch/>
        </p:blipFill>
        <p:spPr>
          <a:xfrm>
            <a:off x="146160" y="23760"/>
            <a:ext cx="8845560" cy="1847880"/>
          </a:xfrm>
          <a:prstGeom prst="rect">
            <a:avLst/>
          </a:prstGeom>
          <a:ln w="0">
            <a:noFill/>
          </a:ln>
        </p:spPr>
      </p:pic>
      <p:sp>
        <p:nvSpPr>
          <p:cNvPr id="480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4e3b30"/>
                </a:solidFill>
                <a:latin typeface="Franklin Gothic Book"/>
              </a:rPr>
              <a:t>2. Практическая часть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2.1. Организация деятельности модели государственно-общественного управления образованием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2.2. Организация мониторинга модели государственно-общественного управления образованием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1" name="Заголовок 1" descr=""/>
          <p:cNvPicPr/>
          <p:nvPr/>
        </p:nvPicPr>
        <p:blipFill>
          <a:blip r:embed="rId1"/>
          <a:stretch/>
        </p:blipFill>
        <p:spPr>
          <a:xfrm>
            <a:off x="146160" y="23760"/>
            <a:ext cx="8845560" cy="1847880"/>
          </a:xfrm>
          <a:prstGeom prst="rect">
            <a:avLst/>
          </a:prstGeom>
          <a:ln w="0">
            <a:noFill/>
          </a:ln>
        </p:spPr>
      </p:pic>
      <p:sp>
        <p:nvSpPr>
          <p:cNvPr id="482" name=""/>
          <p:cNvSpPr txBox="1"/>
          <p:nvPr/>
        </p:nvSpPr>
        <p:spPr>
          <a:xfrm>
            <a:off x="250920" y="184464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4e3b30"/>
                </a:solidFill>
                <a:latin typeface="Franklin Gothic Book"/>
              </a:rPr>
              <a:t>Внешние условия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: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300"/>
              </a:spcBef>
              <a:buClr>
                <a:srgbClr val="f0a22e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автономность образовательной организации;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300"/>
              </a:spcBef>
              <a:buClr>
                <a:srgbClr val="f0a22e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экономическая самостоятельность, готовность к самостоятельному определению стратегии развития, переход в системе образования к договорным отношениям;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300"/>
              </a:spcBef>
              <a:buClr>
                <a:srgbClr val="f0a22e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создание четких правовых норм и организационных условий;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Заголовок 1" descr=""/>
          <p:cNvPicPr/>
          <p:nvPr/>
        </p:nvPicPr>
        <p:blipFill>
          <a:blip r:embed="rId1"/>
          <a:stretch/>
        </p:blipFill>
        <p:spPr>
          <a:xfrm>
            <a:off x="146160" y="23760"/>
            <a:ext cx="8845560" cy="1847880"/>
          </a:xfrm>
          <a:prstGeom prst="rect">
            <a:avLst/>
          </a:prstGeom>
          <a:ln w="0">
            <a:noFill/>
          </a:ln>
        </p:spPr>
      </p:pic>
      <p:sp>
        <p:nvSpPr>
          <p:cNvPr id="484" name=""/>
          <p:cNvSpPr txBox="1"/>
          <p:nvPr/>
        </p:nvSpPr>
        <p:spPr>
          <a:xfrm>
            <a:off x="324000" y="1844640"/>
            <a:ext cx="8686800" cy="38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300"/>
              </a:spcBef>
              <a:buClr>
                <a:srgbClr val="f0a22e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вариативность – условие формирования системы государственно-общественного управления;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18960" indent="-318960">
              <a:spcBef>
                <a:spcPts val="300"/>
              </a:spcBef>
              <a:buClr>
                <a:srgbClr val="f0a22e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разгосударствление системы образования и диверсификация образовательных организаций;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18960" indent="-318960">
              <a:spcBef>
                <a:spcPts val="300"/>
              </a:spcBef>
              <a:buClr>
                <a:srgbClr val="f0a22e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появление «горизонтальных» управленческих структур в форме Попечительских советов, Советов школ, Управляющих советов и др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18960" indent="-31896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18960" indent="-31896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5" name="Заголовок 1" descr=""/>
          <p:cNvPicPr/>
          <p:nvPr/>
        </p:nvPicPr>
        <p:blipFill>
          <a:blip r:embed="rId1"/>
          <a:stretch/>
        </p:blipFill>
        <p:spPr>
          <a:xfrm>
            <a:off x="146160" y="23760"/>
            <a:ext cx="8845560" cy="1847880"/>
          </a:xfrm>
          <a:prstGeom prst="rect">
            <a:avLst/>
          </a:prstGeom>
          <a:ln w="0">
            <a:noFill/>
          </a:ln>
        </p:spPr>
      </p:pic>
      <p:sp>
        <p:nvSpPr>
          <p:cNvPr id="486" name=""/>
          <p:cNvSpPr txBox="1"/>
          <p:nvPr/>
        </p:nvSpPr>
        <p:spPr>
          <a:xfrm>
            <a:off x="179280" y="1773360"/>
            <a:ext cx="878544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4e3b30"/>
                </a:solidFill>
                <a:latin typeface="Franklin Gothic Book"/>
              </a:rPr>
              <a:t>Внутренние условия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: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>
              <a:spcBef>
                <a:spcPts val="300"/>
              </a:spcBef>
              <a:buClr>
                <a:srgbClr val="f0a22e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региональные и местные органы власти поддерживают новые формы управления в системе образования;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>
              <a:spcBef>
                <a:spcPts val="300"/>
              </a:spcBef>
              <a:buClr>
                <a:srgbClr val="f0a22e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руководитель школы понимает перспективность этих форм;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>
              <a:spcBef>
                <a:spcPts val="300"/>
              </a:spcBef>
              <a:buClr>
                <a:srgbClr val="f0a22e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у школы есть опыт эффективного сотрудничества с родителями и социальными партнёрами по разным направлениям деятельности, который можно развивать и переносить на более высокий уровень;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7" name="Заголовок 1" descr=""/>
          <p:cNvPicPr/>
          <p:nvPr/>
        </p:nvPicPr>
        <p:blipFill>
          <a:blip r:embed="rId1"/>
          <a:stretch/>
        </p:blipFill>
        <p:spPr>
          <a:xfrm>
            <a:off x="146160" y="23760"/>
            <a:ext cx="8845560" cy="184788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 txBox="1"/>
          <p:nvPr/>
        </p:nvSpPr>
        <p:spPr>
          <a:xfrm>
            <a:off x="324000" y="1844640"/>
            <a:ext cx="868680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buClr>
                <a:srgbClr val="f0a22e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у школы есть реальные достижения в развитии школьного самоуправления, детского коллектива по привлечению учащихся к проведению всевозможных мероприятий, проектной деятельности;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300"/>
              </a:spcBef>
              <a:buClr>
                <a:srgbClr val="f0a22e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в достаточной степени развита активность и организованность граждан, их заинтересованность в делах образовательной организации и др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9" name="Заголовок 1" descr=""/>
          <p:cNvPicPr/>
          <p:nvPr/>
        </p:nvPicPr>
        <p:blipFill>
          <a:blip r:embed="rId1"/>
          <a:stretch/>
        </p:blipFill>
        <p:spPr>
          <a:xfrm>
            <a:off x="60480" y="2779560"/>
            <a:ext cx="8875440" cy="10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Заголовок 1" descr=""/>
          <p:cNvPicPr/>
          <p:nvPr/>
        </p:nvPicPr>
        <p:blipFill>
          <a:blip r:embed="rId1"/>
          <a:stretch/>
        </p:blipFill>
        <p:spPr>
          <a:xfrm>
            <a:off x="146160" y="268200"/>
            <a:ext cx="8845560" cy="1359000"/>
          </a:xfrm>
          <a:prstGeom prst="rect">
            <a:avLst/>
          </a:prstGeom>
          <a:ln w="0">
            <a:noFill/>
          </a:ln>
        </p:spPr>
      </p:pic>
      <p:sp>
        <p:nvSpPr>
          <p:cNvPr id="415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еличение масштабов информирования населения о возможностях общественного участия в управлении, результатах работы органов государственно-общественного управления, реализации мер, направленных на повышение мотивации граждан к участию в управлении образовательной организацией;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е экономических механизмов для инвестиционной привлекательности школы;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just">
              <a:lnSpc>
                <a:spcPct val="100000"/>
              </a:lnSpc>
              <a:spcBef>
                <a:spcPts val="300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Заголовок 1" descr=""/>
          <p:cNvPicPr/>
          <p:nvPr/>
        </p:nvPicPr>
        <p:blipFill>
          <a:blip r:embed="rId1"/>
          <a:stretch/>
        </p:blipFill>
        <p:spPr>
          <a:xfrm>
            <a:off x="146160" y="268200"/>
            <a:ext cx="8845560" cy="1359000"/>
          </a:xfrm>
          <a:prstGeom prst="rect">
            <a:avLst/>
          </a:prstGeom>
          <a:ln w="0">
            <a:noFill/>
          </a:ln>
        </p:spPr>
      </p:pic>
      <p:sp>
        <p:nvSpPr>
          <p:cNvPr id="417" name=""/>
          <p:cNvSpPr txBox="1"/>
          <p:nvPr/>
        </p:nvSpPr>
        <p:spPr>
          <a:xfrm>
            <a:off x="304920" y="1553760"/>
            <a:ext cx="86868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еспечение эффективного взаимодействия различных уровней и форм общественного участия в управлении;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сетевого взаимодействия участников государственно-общественного управления;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е саморегулируемого объединения участников государственно-общественного управления;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едрение технологии проектного менеджмента в управленческую деятельность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just">
              <a:lnSpc>
                <a:spcPct val="100000"/>
              </a:lnSpc>
              <a:spcBef>
                <a:spcPts val="300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Заголовок 1" descr=""/>
          <p:cNvPicPr/>
          <p:nvPr/>
        </p:nvPicPr>
        <p:blipFill>
          <a:blip r:embed="rId1"/>
          <a:stretch/>
        </p:blipFill>
        <p:spPr>
          <a:xfrm>
            <a:off x="109440" y="457200"/>
            <a:ext cx="8882280" cy="1000080"/>
          </a:xfrm>
          <a:prstGeom prst="rect">
            <a:avLst/>
          </a:prstGeom>
          <a:ln w="0">
            <a:noFill/>
          </a:ln>
        </p:spPr>
      </p:pic>
      <p:sp>
        <p:nvSpPr>
          <p:cNvPr id="419" name=""/>
          <p:cNvSpPr txBox="1"/>
          <p:nvPr/>
        </p:nvSpPr>
        <p:spPr>
          <a:xfrm>
            <a:off x="324000" y="1341360"/>
            <a:ext cx="8686800" cy="50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Конвенция о правах ребёнка;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300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Федеральный закон от 29.12.2012 №273 - ФЗ (ред. от 13.07.2015) «Об образовании в Российской Федерации» (с изм. и доп., вступ. в силу с 24.07.2015);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300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Федеральный закон № 83-ФЗ 08.05.2010 «О внесении изменений в отдельные законодательные акты Российской Федерации в связи с совершенствованием правового положения государственных (муниципальных) учреждений»;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Заголовок 1" descr=""/>
          <p:cNvPicPr/>
          <p:nvPr/>
        </p:nvPicPr>
        <p:blipFill>
          <a:blip r:embed="rId1"/>
          <a:stretch/>
        </p:blipFill>
        <p:spPr>
          <a:xfrm>
            <a:off x="109440" y="457200"/>
            <a:ext cx="8882280" cy="1000080"/>
          </a:xfrm>
          <a:prstGeom prst="rect">
            <a:avLst/>
          </a:prstGeom>
          <a:ln w="0">
            <a:noFill/>
          </a:ln>
        </p:spPr>
      </p:pic>
      <p:sp>
        <p:nvSpPr>
          <p:cNvPr id="421" name=""/>
          <p:cNvSpPr txBox="1"/>
          <p:nvPr/>
        </p:nvSpPr>
        <p:spPr>
          <a:xfrm>
            <a:off x="304920" y="1553760"/>
            <a:ext cx="8686800" cy="489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Указ Президента от 31.08.1999 № 1134 «О дополнительных мерах по поддержке общеобразовательных учреждений в Российской Федерации»;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300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Федеральная целевая программа развития образования на 2011 – 2015 гг.;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300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Стратегия развития образования Российской Федерации до 2020 г.;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300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Концепции долгосрочного социально-экономического развития Российской Федерации до 2020 года;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300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Заголовок 1" descr=""/>
          <p:cNvPicPr/>
          <p:nvPr/>
        </p:nvPicPr>
        <p:blipFill>
          <a:blip r:embed="rId1"/>
          <a:stretch/>
        </p:blipFill>
        <p:spPr>
          <a:xfrm>
            <a:off x="109440" y="457200"/>
            <a:ext cx="8882280" cy="1000080"/>
          </a:xfrm>
          <a:prstGeom prst="rect">
            <a:avLst/>
          </a:prstGeom>
          <a:ln w="0">
            <a:noFill/>
          </a:ln>
        </p:spPr>
      </p:pic>
      <p:sp>
        <p:nvSpPr>
          <p:cNvPr id="423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300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Национальная образовательная инициатива «Наша новая школа», утвержденная Президентом Российской Федерации от 04.02.2010 № Пр-271;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18960" indent="-318960">
              <a:spcBef>
                <a:spcPts val="300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План действий по модернизации общего образования на 2011-2015 гг., утвержденный Распоряжением Правительства Российской Федерации 07.09.2010 № 1507-р;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18960" indent="-318960">
              <a:spcBef>
                <a:spcPts val="300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Письмо МО РФ № 22-06-1024 от 03.08.2004 г. «Об активизации государственно-общественного управления образовательным учреждением»;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18960" indent="-318960">
              <a:spcBef>
                <a:spcPts val="300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18960" indent="-318960">
              <a:spcBef>
                <a:spcPts val="300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18960" indent="-31896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18960" indent="-31896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8-12T16:37:45Z</dcterms:created>
  <dc:creator>Bychkov Maxim A</dc:creator>
  <dc:description/>
  <dc:language>en-US</dc:language>
  <cp:lastModifiedBy>Viktor</cp:lastModifiedBy>
  <dcterms:modified xsi:type="dcterms:W3CDTF">2015-08-27T04:28:33Z</dcterms:modified>
  <cp:revision>34</cp:revision>
  <dc:subject/>
  <dc:title>Перспективные модели государственно-общественного управления образованием и механизмы их реализации в сфере общего образования</dc:title>
</cp:coreProperties>
</file>