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5E5-D4AC-4AD8-BFC2-CF4CB5B71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59F-03E5-4967-807F-217088B18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1A3-2F83-4E39-9F3A-3EE625F1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004-36D4-48F9-B8B1-1F5EC23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F72BE-36C3-4165-95B3-EA1806F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6720A-F959-41D4-8F68-D262418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E40EE-6130-4FB6-96A6-7ACF608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5C96-83AF-4579-9407-AAD1C90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213E-045C-4E85-A676-1C1F3BD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E58E8-8C5B-4B04-9E38-F38562F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E0C23-C440-45E2-9987-7582A131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C915-3999-4872-8187-D199E7A4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1168D-B0C6-49C0-8BE8-4CEC38E3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60B-AAF6-4BDD-B8A7-64E635FB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889-9EFD-40D2-AEE8-AC33B3F4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DDF0-66C9-4135-8613-4FC2B984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4DD-C35E-463B-AE4B-856800B7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8CF8-F173-4F66-828D-E8F776D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F58D-E113-4725-B4AF-DBE0005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926-41E9-4EDE-9E28-89D8DA9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5DA-5050-46E8-9E98-BCAFB87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831F-034E-44B2-B0C4-32779AA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B4C-CBEC-4EE1-B262-D2D3A31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449-254D-49C7-B675-95DFB5C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F4E4-40BA-47D7-8018-1C65D67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347-F05D-45BF-A4FD-DD00DD0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190A-8EA0-4E21-B15A-5B6E0E47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474-C854-4402-8EFC-44FB435C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E182-F517-42C4-A1D6-30AA787C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7251-C39A-4C95-9FEA-FEC1D07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2206-D950-4886-A6D9-948ED37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2152-C359-43E8-A5DA-5A7FE785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CDAC-463C-400C-90F1-514E20D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505-1625-4C27-A084-9F8A946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3B5E-B78A-4AC1-BA01-5BD95CE0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7348-0B8D-4121-8982-58BC9E9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1172-BC09-4BBF-B98E-D69660C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AFBA-625C-4384-B828-00A2302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14D8-757A-4A21-A724-6148CF6E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B81D-F649-4CC0-AC8B-F7FDD1A5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BCBD-0212-47A8-A661-8320AD85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4570-FE40-410E-BDB9-1930CDC1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1307-794D-4E34-AA23-CE4AE044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58F4-A796-4607-A4BF-920E386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C54-127D-4FD6-860E-4ED72D2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596E-46BF-4591-8AF6-E1F2438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1BBA-1FD3-4D5C-ADFD-5C44903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6D68-08FE-461F-9FB2-8951FA1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11C1-38B6-4004-8BB0-A9EC493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0971-75A5-4AA1-BD6A-3E1A617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4383-3C01-46CD-B929-85DDB91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B1C7-2022-471F-ADD7-64D7220D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50CD-A15A-4FBB-AD97-E4CA7463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76B6-13DA-482F-B729-9CA68CAB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8D22A-F3D2-4E62-9466-455871CC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4A1-A058-4561-83DE-141B3F34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09F2-F72A-4BE1-9A03-C1DA315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1373-5CE5-411C-9449-DABB602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88A2-2F62-4B54-A701-7E42FB4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CACA-8694-4276-B361-E8E3CE73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5A48-7A92-4C41-B90E-484553F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9F2A-DD84-4F49-BF72-E787931E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9150-C287-4AD3-8D54-6681B49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CEEC1-3942-40FB-B615-04264C0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FC8B-CACF-487B-96D8-3B8132B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8CD5-ECAC-44D2-B5F5-B7BBAA6A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E3F-E116-4250-B1F3-C4780F9D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8207-AF23-469C-9AFB-4237805B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1F34F-732F-4160-98A3-88DBEBA3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6A43-735B-4E7A-9DE2-7EC9D5B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89F5-232A-4A62-AB4E-0A8ACC50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21A8-23E3-4E37-A28D-1EC94DF7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B781-C82C-474B-8079-620F046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3FD3-3B9C-4068-B679-9890EB96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2BFE2-D911-4FC5-BB22-2305A47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D386E-D521-4525-A289-6378EC6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C503-D402-4BB5-9DBC-1C77116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F91-C483-4325-A556-206E800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3B25-61F0-4862-9084-5A4405D9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3C1F-BE91-414A-9BF3-18411D3F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5914-4F30-4E73-BDD7-90A4E2AE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09FB-1683-43B1-AF3A-53DAB02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E2E8-8BA8-44C0-BAD7-05346D9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ED10-F2F1-46A1-881C-38E039E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CE8B-85D9-43AA-879A-E275738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CF11-ACF5-4A93-8D6F-983C1A42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8346-203F-48C2-9AF3-3DA4E2A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1F30-3EE2-43BF-9B58-147D3CB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846-30C4-425C-8FE9-5E9064B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3152-C819-4AC7-BEE5-FED08E4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A74D-8F3F-4EE0-91C6-9389D2B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04ECB-20B6-4CA5-9179-9510706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D022A-2896-4E24-8445-D10C987D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58FC-4680-448B-80D0-473BB25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051B8-B9DA-4396-8B03-27EFFDED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18EA-47B8-4EDB-B802-F91CA696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8572-656B-40E8-B406-414C733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B4EC9-F396-4FD1-BA5F-CA73D374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16AC-61D5-406B-8B40-189087D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41D-653C-4B49-943E-EBD9B00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F229F-195E-426E-8EEA-4E8745C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B570-30D5-4660-A049-C2E27FB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35D2-5CED-4B33-98F0-89501CD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D1C44-A7AC-4F4F-B7E9-636F27E7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DF10A-9C03-48DB-902A-891B5C0C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333F-3145-4E88-890D-2F82CCB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BB363-0437-409F-A923-3296BDF6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A9DC2-0EC1-4E89-B9BB-3AA27FF6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AF377-940B-4197-8552-AF94C1F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6204C-0375-4C61-AD9E-520B603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F63B-BEF1-4356-BBC1-D80DC14532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9467-B40D-47EB-8C1E-A4F156CC290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884-30F9-4E6C-9636-109AC62D5B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F772-21C2-40C7-992D-DA33E297F8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BD14-225D-4ED2-AF72-11AAB61525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8AD-EBDC-4D5D-B162-D65404028E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033-F2DB-4E89-8E38-13816E9113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FB6-1CBC-4CE6-9156-26334169C4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39F-4D18-428D-B9D9-F77725FEE5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93560" y="457200"/>
            <a:ext cx="8096400" cy="4194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0920" y="472428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Бычков М. А., к.ист.н., доцент кафедры «Гуманитарные и социально-политические науки» Московского государственного университета технологий и управления (Первый казачий университет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фера дошкольного образования станет организатором и лидером в процессе консолидации общественных усилий в деле социализации, в формировании гражданской и социально-активной личности ребёнк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величится количество родителей (законных представителей), социальных партнеров ориентированных на общественную деятельность, благотворительность, социально ответственную инициативу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величится степень общественного внимания к дошкольной организации и его идейности в деле развития и воспитания, обучающихся на перспективу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изменится качество образования, так как будет осуществлён переход от опосредованно-теоретической информационной социализации для взрослых к непосредственно практической социализации обучающихс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ализуется перспективная программа развития дошкольной организации и его проекты в рамках районной экспериментальной площадки на ближайшие год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1. Для дошкольных образовательных организаций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оздание гибкой системы управления ресурсами организаций дошкольного образования через созданную модель государственно-общественного управле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дополнительные возможности общения с родителями, педагогами и, как следствие, своевременное получение информации об изменении потребностей местного сообщества и адекватное реагирование на происходящие измене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риобретение знаний современного менеджмент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явление внешней оценки деятельности дошкольного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вышение общественного статуса дошкольной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ормирование ресурсной базы дошкольной образовательной организации, обеспечивающей реализацию социального заказа на образовани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2. Для родителей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частие в управлении ДОО, в выработке и принятии нормативных документов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довлетворение потребности в качественном обучении и воспитании ребёнк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вышение педагогической компетентности родителей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изменения во взаимоотношениях в системе образования, усиливающие сотрудничество и взаимопонимание между участниками образовательного процесс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возможность предъявлять ДОО образовательные потребности, формулировать заказ на образование собственного ребёнка, оказывать влияние на состояние образовательного процесса и непосредственно участвовать в управлении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асширение каналов получения информации о состоянии знаний, воспитанности и жизни ребёнка в детском сад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3. Для педагогов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вышение уровня квалификации и профессионализм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лучение информации об изменениях потребностей местного сообщества для того, чтобы адекватно на них реагироват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ализация новых форм и технологий обучения – использование медиапроектов, внедрение информационных технологий в учебный процесс, развитие навыков научно-исследовательской деятельност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своение новых форм социального взаимодействия для социальных партнёров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бщественная экспертиза отдельных направлений деятельности дошкольной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зитивные изменения в системе образова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риобретение навыков социального партнерств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4. Для дошкольников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безопасные условия жизнедеятельност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изическое здоровье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сихическое здоровье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интеллектуальное здоровье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оциальное благополучие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духовно-нравственное здоровь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едеральная целевая программа развития образования;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Типовое положение об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едеральный закон «Об образовании» от 29.12.2012, №273-ФЗ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ставы образовательных организаций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 государственно-общественным управлением в сфере образования понимается постоянное ответственное участие и взаимодействие в управлении образованием государственного, профессионально-ведомственного сектора и представителей общественности (родители, активные граждане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 Совет образовательной организац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Управляющий сове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Наблюдательный сове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Попечительский сове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Благотворительный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н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918640" cy="18478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24000" y="1628640"/>
            <a:ext cx="8686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. Внешние услов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автономность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экономическая самостоятельность, готовность к самостоятельному определению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тратегии развития, переход в системе образования к договорным отношениям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здание четких правовых норм и организационных услов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вариативност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явление «горизонтальных» управленческих структур в форме Управляющего совет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918640" cy="1847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24000" y="177300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2. Внутренние услов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гиональные и местные органы власти поддерживают новые формы управления в системе образова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уководитель ДОО понимает перспективность этих форм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 ДОО есть опыт эффективного сотрудничества с родителями и социальными партнёрами по разным направлениям деятельност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в достаточной степени развита активность, организованность граждан, их заинтересованность в делах образовательной организаци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24000" y="126792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вовлечения общественности в формирование и реализацию образовательной деятельности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вышения эффективности ДО; удовлетворению образовательных потребностей и интересов всех категорий участников образовательного процесс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ализации прав работников образовательной организации, обучающихся и их родителей (законных представителей) на участие в управлении ДОО образованием первой ступен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. ОБЩЕЕ СОБРАНИЕ КОЛЛЕКТИ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.1. Основание легитимнос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б общем собрании коллектив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.2. Полномочия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работка и принятие Устава, изменений и дополне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слушивание и утверждение отчета руководителя по итогам учебного и финансового го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пределение приоритетных направлений деятельности ДОО, принципов формирования и использования его имуществ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ование совещательных органов ДОО и прекращение их полномоч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5092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.3. Порядок формирова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боры представителей от работников, родителей; члены управляющего совета (по должности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.4. Соста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лены Управляющего совета, представители работников – 1/3, родителей – 1/3, общественности – 1/3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.5. Структур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, секретар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2. УПРАВЛЯЮЩИЙ СОВ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.1. Основание легитимнос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б Управляющем совете, Положения о выборах в Управляющий совет, приказа учредител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.2. Полномоч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нимает решения по утверждению программы развития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верждает учебный план, образовательные программы, режим работы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верждает план финансово-хозяйственной деятельност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действует привлечению внебюджетных средств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частвует в распределении стимулирующего фонда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ссматривает жалобы и заявления участников образовательного процесс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3. Порядок форм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боры представителей от работников, родителей; заведующий (по должности); представитель учредителя (назначается учредителем); кооптированные член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ть государственно-общественного управления состоит в объединении интересов государства и общества в решении проблем обучения, воспитания и развития подрастающего поколения с учетом социальных, культурных особенностей. Современное образование не может быть замкнутым и самодостаточным. Оно должно быть открыты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4.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тавитель учредителя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ведующий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тавители работников – 1/3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тавители родителей – 1/3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тавители общест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енности –1/3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5. Струк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, секретарь, комисс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3. ОБЩЕЕ СОБРАНИЕ ТРУДОВОГО КОЛЛЕКТИ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1. Основание легитим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б Общем собрании трудового коллекти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2. Полномоч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нимает Устав, изменения к нему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носит предложения по членству в Управляющий сове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верждает коллективный договор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суждает проекты локальных актов по вопросам, касающимся интересов работник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суждает и принимает Правила внутреннего трудового распоряд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3240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3. Порядок форм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члены трудового коллектива, для которых является основным местом работ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4.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члены трудового коллектива, для которых ДОО является основным местом работ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5. Струк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, секретар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4. ПЕДАГОГИЧЕСКИЙ СОВ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1. Основание легитим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 Педагогическом совет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324000" y="1413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4.2. Полномоч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суждает и выбирает учебный план, программ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рганизует работу по повышению квалификации педагогов, распространению передового опыт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ает вопрос о рекомендации к различным поощрения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пределяет направления взаимодействия с государственными и общественными организациями и др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3. Порядок форм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педагоги по должност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4.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се педагог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5. Струк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 ПС, секретарь П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5. ОБЩЕЕ СОБРАНИЕ РОДИТЕЛ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1. Основание легитим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б общем собрании родител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2. Полномоч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носит предложения в план работы и программу развития ДОО, предложения по организации режима работ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легирует членов из числа родителей в Управляющий сове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заимодействует с общественными организациями по вопросам пропаганды традиций и уклада жизни, семейного воспит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верждает состав общего родительского комите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3. Порядок форм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легаты от родительских коллективов групп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4.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-7 человек от каждой групп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5. Струк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, секретар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беспечение условий для вовлечения общественности в формирование и реализацию образовательной деятельности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овышение эффективности в области дошкольного образова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довлетворение образовательных потребностей и интересов всех категорий участников образовательного процесс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ализация прав работников образовательной организации, обучающихся и их родителей (законных представителей) на участие в управлении ДОО образованием первой ступен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6. РОДИТЕЛЬСКИЙ КОМИТЕТ ДЕТСКОГО СА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1. Основание легитим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йствует на основании Устава, Положения о Родительском комитет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4920" y="15537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2. Полномоч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действует обеспечению оптимальных условий для организации учебно-воспитательного процесс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ординирует деятельность групповых родительских комитет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оводит разъяснительную и консультативную работу среди родителей (законных представителей) обучающихся об их правах и обязанностях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казывает содействие в проведении общесадовских мероприят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вместно с администрацией контролирует организацию и качество питания, медицинского обслужи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казывает помощь в организации и проведении общесадовских родительских собра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3. Порядок форм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и родительских комитетов групп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4.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дин представитель от родительского комитета групп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5. Структу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едседатель, секретар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1" descr=""/>
          <p:cNvPicPr/>
          <p:nvPr/>
        </p:nvPicPr>
        <p:blipFill>
          <a:blip r:embed="rId1"/>
          <a:stretch/>
        </p:blipFill>
        <p:spPr>
          <a:xfrm>
            <a:off x="60480" y="1195560"/>
            <a:ext cx="88754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формировать и организовать деятельность органа ГОУ образованием на уровне образовательной организации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азвить социальное партнерство в системе образования как путь решения актуальных проблем развития и модернизации ДО через внедрение механизма общественного управления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оздать систему общественного контроля над качеством дошкольного образования и полнотой выполнения социального заказ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рганизовать совместную деятельность родительской общественности, органа самоуправления в решении актуальных вопросов развития дошкольной организации на перспектив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24000" y="177300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ализация и защита прав и законных интересов участников образовательного процесса;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приоритетность для системы управления дошкольным образованием качества образования и качества жизни воспитанников в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добровольность участия общественности в государственно-общественном управлении в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открытость и доступность информации о государственно-общественном управлении ДОО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независимость и паритетность органов общественного управления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24000" y="184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законность, предполагающая неукоснительное соблюдение законодательств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согласованное распределение полномочий и сфер ответственности между администрацией ДОО и общественным органом управления на каждом его уровне и этапе функционирования и развити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влечение общественности к делам и проблемам дошкольного образования в соответствии с приоритетами ДОО и его годовых задач, повышение открытости образовательной систем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6:43:11Z</dcterms:created>
  <dc:creator>Bychkov Maxim A</dc:creator>
  <dc:description/>
  <dc:language>en-US</dc:language>
  <cp:lastModifiedBy>Viktor</cp:lastModifiedBy>
  <dcterms:modified xsi:type="dcterms:W3CDTF">2015-08-16T22:30:26Z</dcterms:modified>
  <cp:revision>43</cp:revision>
  <dc:subject/>
  <dc:title>Перспективные модели государственно-общественного управления образованием и механизмы их реализации в сфере дошкольного образования</dc:title>
</cp:coreProperties>
</file>