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BCA0-32BA-4264-90E7-E5D965546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A83B-501D-498A-BC73-0B779612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371A-2BDF-4ACF-8BE1-129275365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74AC-85FC-46B0-B0B2-C7764AEC2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54DA-1AAA-4E0E-A32F-8FB53A19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4103-577E-4BE9-98AD-182B5302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A9F9-5D76-4FF9-8409-FB16E3A2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3C9A-4BB0-49E0-8302-FDB444E5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B56B-0C0A-4D46-8C25-C7C78F75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A213-2694-439F-AB63-3366C206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53EC-8F78-4654-8609-281C2CB5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AE32-132C-4463-8060-2C6E4C1E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FFD1-D9DC-4D38-9DEC-D4F840D1B4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gutm.ru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www.mgutm.ru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E2CE8-C468-49B2-A063-2C157CE473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2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ГУТУ им. К.Г. Разумовск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ЭБИНА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СНОВНЫЕ НАПРАВЛЕНИЯ РАЗВИТИЯ ГОСУДАРСТВЕННО-ОБЩЕСТВЕННОГО УПРАВЛЕНИЯ В СИСТЕМЕ ПОВЫШЕНИЯ КВАЛИФИКАЦИИ ПЕДАГОГОВ НА СОВРЕМЕННОМ ЭТАПЕ</a:t>
            </a:r>
            <a:br>
              <a:rPr sz="3200"/>
            </a:br>
            <a:br>
              <a:rPr sz="3200"/>
            </a:b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ШИШОВ Сергей Евгеньевич, </a:t>
            </a:r>
            <a:br>
              <a:rPr sz="19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5-27 августа, 2015 г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СК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33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logo" descr="Московский Государственный Университет Технологий и Управлени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15920"/>
            <a:ext cx="115272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957E-6D25-4F5E-BCB8-856D89D54E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Периодичность подготовки. Как известно, российские учителя должны повышать квалификацию не реже, чем раз в 5 лет. При этом сингапурские власти обязали учителей проходить 100-часовые курсы ПК ежегодно. Каждый год организовать ПК учителей должны и работодатели Финляндии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909360" y="-360"/>
            <a:ext cx="8234280" cy="981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ГУТУ им. К.Г.Разумовс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3"/>
          <a:stretch/>
        </p:blipFill>
        <p:spPr>
          <a:xfrm>
            <a:off x="7920" y="-25560"/>
            <a:ext cx="90180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4D61-B0BC-4843-BDA2-2F62A5F35E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личаются и уровни ПК педагогов. Например, в Японии выпускники педагогических вузов и факультетов, поступая в школу, начинают работу со стажировки, то есть ПК стартует еще до приобретения стажа педагогической деятельности: в префектурных учебных центрах они в течение года прослушивают лекции, посещают семинары и другие занятия. А в Лихтенштейне учителям, не достигшим пенсионного возраста, проработавшим в государственных образовательных учреждениях не менее 10 лет (5 из которых – непрерывно), предлагается интенсивная переподготовка с целью профессионального раз-вития, прежде всего, в области дидактики и методики их предмета. Обучение длится 5–20 недель, в зависимости от нагрузки за последние 5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909360" y="-360"/>
            <a:ext cx="8234280" cy="981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ГУТУ им. К.Г.Разумовс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3"/>
          <a:stretch/>
        </p:blipFill>
        <p:spPr>
          <a:xfrm>
            <a:off x="7920" y="-25560"/>
            <a:ext cx="90180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A538-61C8-4C74-8EB7-419C3C2CF5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татус профессионального развития учите-лей. Во многих странах ПК закреплено в законодательстве как их обязанность. Так, кубинская система, имеющая централизованный характер, предполагает обязательное профессиональное развитие педагога. Обязательно оно в Нидерлан-дах, Японии, Лихтенштейне, США, Бельгии, Германии, Канаде и др. Однако в большинстве развивающихся государств и в ряде развитых (Дания, Франция, Италия, Дания, Франция, Ита-лия, Норвегия, Люксембург) она осуществляется добровольно, по желанию работник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оличество учителей, участвующих в программах повышения квалификации, по разным странам очень различно. В Европе наибольший процент таких педагогов в Словении (более 76 %), наименьший, по имеющимся данным, – в Польше. В Азии особо выделяется Корея (почти 92 % учителей в год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909360" y="-360"/>
            <a:ext cx="8234280" cy="981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ГУТУ им. К.Г.Разумовс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3"/>
          <a:stretch/>
        </p:blipFill>
        <p:spPr>
          <a:xfrm>
            <a:off x="7920" y="-25560"/>
            <a:ext cx="90180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1F49-F5DB-4981-B68D-DEB65BBAD6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Управление ПК: централизованное и децентрализованное. К примеру, профессиональное развитие педагогов в Швеции ведется без вмешательства центра: в этой сфере государство не имеет ни единых задач, ни системы государственного контроля (оно осуществляется на ры-ночной основе, в соответствии со спросом на эту услугу). В Финляндии ответственность за профессиональный рост педагогических кадров несут работодатели, будь то директоры школ или муниципальные комитеты. В Японии, напротив, ПК находится под контролем со стороны государств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909360" y="-360"/>
            <a:ext cx="8234280" cy="981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ГУТУ им. К.Г.Разумовс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3"/>
          <a:stretch/>
        </p:blipFill>
        <p:spPr>
          <a:xfrm>
            <a:off x="7920" y="-25560"/>
            <a:ext cx="90180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DA2A-0CEB-45C1-9A76-E90500FFBA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0"/>
          <p:cNvSpPr/>
          <p:nvPr/>
        </p:nvSpPr>
        <p:spPr>
          <a:xfrm>
            <a:off x="539640" y="404640"/>
            <a:ext cx="7993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4643280" y="1557360"/>
            <a:ext cx="3600720" cy="468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395280" y="1557360"/>
            <a:ext cx="4105440" cy="46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ачестве бинарных оппозиций выступает культуросберегающая и практическая функции образова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Традиционная парадигма</a:t>
            </a: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на идее "сберегающей", консервативной (в положительном смысле) роли образовательного учреждения, передача культурного наследия человеческой цивилизации – знания, умения, навыки, идеалы и ценности, способствующие творческому личностному развитию, а также сохранению социальной стабильности общества.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Содержание образования при этом строится на базовых, проверенных временем знаниях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, умениях, навыках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47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ционалистическая парадигм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азиру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на содержании образования, а на эффективных способах усвоения обучающимися различных видов знаний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нцепция социальной инженерии Б. Скиннера - цель образования состоит в том, чтобы сформировать у обучающих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даптивный "поведенческий репертуа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", соответствующий социальным нормам, требованиям и ожиданиям западной культу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3EE6-3E9E-46CE-81EB-11781258E1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ажным признаком ПК в экономически развитых государствах на современном этапе стало то обстоятельство, что в условиях рыночной экономики педагог делит с государством ответственность за уровень своего профессионализма, проявляя и личную инициативу, и готовность оплачивать профессиональное развитие самостоят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909360" y="-360"/>
            <a:ext cx="8234280" cy="981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ГУТУ им. К.Г.Разумовс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3"/>
          <a:stretch/>
        </p:blipFill>
        <p:spPr>
          <a:xfrm>
            <a:off x="7920" y="-25560"/>
            <a:ext cx="90180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6C16-DD0A-450D-806B-C9F905CFB9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Проблемы, характерные для СПК учителей в мире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1) зависимость педагогов от профессионализма методистов и других специалистов этой об-ласти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2) проблема сознательности и мотивации учителей на ПК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3) низкая дифференциация продолженного обучения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4) неравенство доступа учителей к программам ПК (по странам, в сельской и городской местности, в плане особенностей оплаты таких предложений и т. д.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909360" y="-360"/>
            <a:ext cx="8234280" cy="981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ГУТУ им. К.Г.Разумовс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3"/>
          <a:stretch/>
        </p:blipFill>
        <p:spPr>
          <a:xfrm>
            <a:off x="7920" y="-25560"/>
            <a:ext cx="90180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94CA-1580-4D0A-8FBC-8B851ACA8E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собенности, представляющие интерес для российского образования: усиленная работа по профессиональному развитию всех учителей на базе школы, в соответствии с их интересами и программой развития самого учебного учреждения; активное взаимодействие школ с вузами и другими учреждениями повышения квалификации, поддержка учителей специалистами вузов, органами власти, представителями общественности; разнообразие форм ПК; организационная поддержка учителей в ПК; применение дистанционного обучения как альтернативной, но очень распространенной формы подготовки и переподготовки педагог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909360" y="-360"/>
            <a:ext cx="8234280" cy="981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ГУТУ им. К.Г.Разумовс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3"/>
          <a:stretch/>
        </p:blipFill>
        <p:spPr>
          <a:xfrm>
            <a:off x="7920" y="-25560"/>
            <a:ext cx="90180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4364-4123-4313-8C18-1E5AD5C23B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ударственная составляющая образования должна гарантировать обеспечение доступности и равных возможностей получения полноценного качественного образ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бщественной составляющей можно выделить внутренние компоненты: внутреннее профессиональное сообщество, ученическое самоуправление и так далее - и внешние: представители родителей, бизнеса, общественных организаций, ассоциации выпускников, национально-культурных сообществ, фонды развития и так дал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909360" y="-360"/>
            <a:ext cx="8234280" cy="981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ГУТУ им. К.Г.Разумовс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3"/>
          <a:stretch/>
        </p:blipFill>
        <p:spPr>
          <a:xfrm>
            <a:off x="7920" y="-25560"/>
            <a:ext cx="90180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7691-2ADF-45EA-87A2-402CC49276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щественность - это организованные структуры, отражающие интересы социальных групп в области образования и не подчинённые органам управления образованием. Это могут быть структур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непосредственно не связанные с системой образования (объединения работодателей, творческие союзы, научные учреждения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объединяющие работников образования (например, ассоциация педагогов-исследователей, ассоциация руководителей школ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объединяющие участников образовательного процесса (родителей, учащихся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обеспечивающие систему образования определёнными ресурсами (за счёт внебюджетных источников - проектные группы, исследовательские лаборатории, временные научно-исследовательские коллективы и так далее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909360" y="-360"/>
            <a:ext cx="8234280" cy="981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ГУТУ им. К.Г.Разумовс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3"/>
          <a:stretch/>
        </p:blipFill>
        <p:spPr>
          <a:xfrm>
            <a:off x="7920" y="-25560"/>
            <a:ext cx="90180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AC16-8DBA-47EA-AC29-B510863274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1123920"/>
            <a:ext cx="9144000" cy="5734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исходящие изменения в сфере общего образования осмысливаются как многогранный кризис, включающий 1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зры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между потребностями современного социума, рынка труда и получаемыми в школе знаниями, навыками, компетенциями, 2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зменение функций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руда учителя, 3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обходимость переосмысления парадигмы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разования и ряд други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900000" y="-360"/>
            <a:ext cx="8244000" cy="981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ГУТУ им. К.Г.Разумовс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logo" descr="Московский Государственный Университет Технологий и Управления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900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053D-1179-46D0-B551-D238D4A438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К общественности можно отнести и группу экспертов по вопросам управления образовательными системами, независимых от органов управления образованием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«Пропорции» участия различных составляющих в образовании и управлении образованием не могут быть заданы раз и навсегда, баланс между ними будет носить подвижный характер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Деятельность органов управления образованием в условиях постепенного выращивания общественной составляющей образования и управления им может строиться как совместно разделенная деятельность. При этом развитие государственно-общественного управления в образовании связано с рядом ограничений и рисков, многие из которых обусловлены сложившимися стереотипами сознания представителей образования и социум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909360" y="-360"/>
            <a:ext cx="8234280" cy="981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ГУТУ им. К.Г.Разумовс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3"/>
          <a:stretch/>
        </p:blipFill>
        <p:spPr>
          <a:xfrm>
            <a:off x="7920" y="-25560"/>
            <a:ext cx="90180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253D-5E1E-47EC-9C78-E834F8B05D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1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енно-общественное управление образованием развивается на основе принципов, предполагающи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ткрытость и демократично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заимодействие и согласованно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участие и соуправл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оритетными направлениями в соответствии с этим выступаю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оздание условий для взаимовыгодного сотрудничества различных моделей государственно-общественного управления на уровня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ниципалитет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ов местного самоуправле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коммерческих неполитических организац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фессиональных сообществ и так далее, отвечающих требованиям Закона РФ «Об образовании», «Концепции и стратегии модернизации российского образования на период до 2010 года», «Федеральной целевой программе развития образования на годы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бучение и консультационная поддержка управленческих кадров государственно-общественного управления образова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909360" y="-360"/>
            <a:ext cx="8234280" cy="981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ГУТУ им. К.Г.Разумовс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3"/>
          <a:stretch/>
        </p:blipFill>
        <p:spPr>
          <a:xfrm>
            <a:off x="7920" y="-25560"/>
            <a:ext cx="90180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9623-AD73-4EEF-B26B-853DA512ED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выделить следующие основные признаки государственно-общественного управ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овместная управленческая деятельность государственных и негосударственных структур по руководству образовательными проект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оцедура принятия решения государственным (муниципальным) органом управления образованием, предусматривающая обязательное согласование проекта решения с представителями обществен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делегирование части властных полномочий органов управления образованием структурам, представляющим интересы определённых групп обществ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909360" y="-360"/>
            <a:ext cx="8234280" cy="981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ГУТУ им. К.Г.Разумовс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920" y="-25560"/>
            <a:ext cx="90180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47B1-053D-41DD-B49D-995D697A8B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СПАСИБ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за внимание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ШИШОВ Сергей Евгенье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901440" y="-360"/>
            <a:ext cx="8242200" cy="981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ГУТУ им. К.Г.Разумовс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9018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B3C8-270B-4E8B-951E-4590FC8898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разование человека можно рассматривать, как оформление 1)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ндивидуального культурно-ценностного ядр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 формир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азовых 2)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нтеллектуальных и 3)психологических функций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мышления, понимания, рефлексии, коммуникации, самоидентификации…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901440" y="-360"/>
            <a:ext cx="8242200" cy="981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ГУТУ им. К.Г.Разумовс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9018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82C7-4B75-4B8C-92E3-7B90057D3C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временные стратегии развития содержания образования определяются двумя уже очевидными процессами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ивилизационных изменен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лобализацие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переходом к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стиндустриальному, информационному обществ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909360" y="-360"/>
            <a:ext cx="8234280" cy="981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ГУТУ им. К.Г.Разумовс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7920" y="-25560"/>
            <a:ext cx="90180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656A-CB3B-4EE8-B068-DB00A89792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утся поиски способов преодоления разрыв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жду логикой освоения и логикой систем знаний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ескольких направления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реорганизация знаний, построение их в виде компактных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уле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мена содержания образования: от освоения системы знаний к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воению структуры 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переход к иной модели пространства образования: «субъект образования – образовательные ресурсы» (ресурсы разных типов, включая знаниевые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итуативно устроенное образование – изучение кейсов, тренинги, обучающие иг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901440" y="-360"/>
            <a:ext cx="8242200" cy="981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ГУТУ им. К.Г.Разумовс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3"/>
          <a:stretch/>
        </p:blipFill>
        <p:spPr>
          <a:xfrm>
            <a:off x="0" y="-38160"/>
            <a:ext cx="9018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F619-4619-45D0-B29B-D6737BB079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Большую роль в ПК учителей почти всех европейских стран играют соответствующие центры и профессиональные объединения педагогов (союзы, общества, ассоциации и т. д.). Велико и участие в этом процессе различных центров педагогической поддержки, корпораций, фирм, международных организаций, частных учреждений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931680" y="-360"/>
            <a:ext cx="8211960" cy="981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ГУТУ им. К.Г.Разумовс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3"/>
          <a:stretch/>
        </p:blipFill>
        <p:spPr>
          <a:xfrm>
            <a:off x="30240" y="-25560"/>
            <a:ext cx="90180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F612-422B-487F-8280-ECA47147DC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чреждения повышения квалификации учителей в Европ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Центры ПК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встрия, Болгария, Великобритания, Венгрия, Германия, Голландия, Греция, Испания, Польша, Румыния, Словакия, Финляндия, Чех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узы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еликобритания, Венгрия, Голландия, Греция, Дания, Испания, Италия, Норвегия, Польша, Португалия, Румыния, Словения, Словакия, Финляндия, Франция, Чехия, Швец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бъединения учителе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 Австрия, Великобритания, Венгрия, Германия, Голландия, Греция, Испания, Италия, Польша, Португалия, Румыния, Словения, Финляндия, Чехия, Швец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Школы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встрия, Великобритания, Венгрия, Германия, Голландия, Греция, Португалия, Словения, Финляндия, Чехия, Швец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чреждения образования взрослых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 Австрия, Великобритания, Венгрия, Германия, Голландия, Финляндия, Чех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901440" y="-360"/>
            <a:ext cx="8242200" cy="981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ГУТУ им. К.Г.Разумовс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9018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4FE8-C5C8-472B-9B87-4203D08CD2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ется ряд отличий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ор времени для курсовой подготовки педагогов: в рабочее время с подменой учителя (Германия, Голландия, Дания и др.), в рабочее время без замены (часть Бельгии, Великобрита-ния, Мальта, Финляндия и Швеция), в нерабочее время – на каникулах, в целевом отпуске (Ислан-дия, Испания, Люксембург и др.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901440" y="-360"/>
            <a:ext cx="8242200" cy="981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ГУТУ им. К.Г.Разумовс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3"/>
          <a:stretch/>
        </p:blipFill>
        <p:spPr>
          <a:xfrm>
            <a:off x="0" y="28440"/>
            <a:ext cx="90180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29AA-1CCA-41F4-B3A0-C46C34E8FC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бязательный минимум объема курсовой подготовки. Например, в Австрии учителя должны посвящать продолженному образованию не менее 15 часов в году, а в Голландии – 166 часов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бъективное наличие времени у учителей для ПК. Есть страны (Финляндия, Швеция, Германия, Китай и др.), где учителя располагают достаточно большим количеством времени для своего профессионального развития. А, скажем, в США и Японии учителя имеют большую учеб-ную нагрузку или другие обязанности, поэтому им сложнее найти время на свое дальнейшее обучени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918720" y="-360"/>
            <a:ext cx="8224920" cy="981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ГУТУ им. К.Г.Разумовс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17640" y="0"/>
            <a:ext cx="9014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08:57:43Z</dcterms:created>
  <dc:creator>admin</dc:creator>
  <dc:description/>
  <dc:language>en-US</dc:language>
  <cp:lastModifiedBy>Viktor</cp:lastModifiedBy>
  <dcterms:modified xsi:type="dcterms:W3CDTF">2015-08-27T09:04:03Z</dcterms:modified>
  <cp:revision>752</cp:revision>
  <dc:subject/>
  <dc:title>Слайд 1</dc:title>
</cp:coreProperties>
</file>